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-360" y="259920"/>
            <a:ext cx="73803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24000" y="1989000"/>
            <a:ext cx="8281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licy and practice concerning the reduction of odour nuisances                   in 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y Hugo van Bel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908000" y="6078600"/>
            <a:ext cx="58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C Seminar Pola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iedzyzdroje, 31 March 2008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333360"/>
            <a:ext cx="723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3366"/>
                </a:solidFill>
                <a:latin typeface="Arial"/>
              </a:rPr>
              <a:t>OpdenKamp Environmental Consultan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eneral plan on odour contr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Plan enough distance in betwe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Request always Best Available Techniqu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Define maximum Odour Load accep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Find acceptable sit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termine odour strength of source (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alculate the odour impact in the surroun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cide about the locally allowed sit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Monitor the situation, and …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eneral Plan on odour contr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Accepted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Nationally advis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Legally orde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Locally decid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Possible role f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Type of odou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Type of surround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Other local fac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30360" y="1125360"/>
            <a:ext cx="36068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Key issues in the History of …</a:t>
            </a: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Nuisance survey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Prototype of maximum odour loa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Dose response inventories /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sectoral approac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Standardisation of means and meth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General policy: local decision nee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Facilitated by NL / EU rules and regulations on measurements and Best Available Techn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1268280"/>
            <a:ext cx="5472000" cy="3419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9567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Organisation on odour contr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Local authority (Province or municipalit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tional government (sectoral approach onl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Local authority (Province or municipalit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Research and facili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tional government (SenterNovem Infomi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Research institutes (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RIVM, TNO, KEMA, WUR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Situation in the Netherlan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Our policy and practice in genera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Industry :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odour control in detai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Agriculture: its regulations and resul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Conclusions and recommand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Decision nee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72000" y="1484280"/>
            <a:ext cx="5472000" cy="3419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Schedule for systematic determin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54007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5399280" cy="4913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Schedule for systematic determin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084360" y="2276640"/>
            <a:ext cx="151164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924360" y="4724280"/>
            <a:ext cx="295272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2205000"/>
            <a:ext cx="0" cy="252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7080" y="4797360"/>
            <a:ext cx="1704960" cy="91440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080" y="20268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Industry and odour nuis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fine emissions (calculated or measur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fine abatement techniqu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wards less nuisance with BAT (Alar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cision on level of acceptable nuis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N’T FORGET the Spatial Planning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Different approaches possib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Guideline for one sector of indus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aste water treatment pl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rewe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 of comparable</a:t>
            </a: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situation elsew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Tailor made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pproach</a:t>
            </a: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For one local sit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For an industrial are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Situation in the Netherlan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Our policy and practice in genera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Industry : </a:t>
            </a: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odour control in detai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Agriculture: its regulations and resul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Conclusions and recommand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18960"/>
            <a:ext cx="82296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i="1" lang="nl-NL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nl-NL" sz="3200" spc="-1" strike="noStrike">
                <a:solidFill>
                  <a:srgbClr val="000099"/>
                </a:solidFill>
                <a:latin typeface="Arial"/>
              </a:rPr>
              <a:t>Permit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84320"/>
            <a:ext cx="26319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Odour  Nui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" y="1868400"/>
            <a:ext cx="215100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i="1" lang="nl-NL" sz="1900" spc="-1" strike="noStrike">
                <a:solidFill>
                  <a:srgbClr val="333399"/>
                </a:solidFill>
                <a:latin typeface="Arial"/>
              </a:rPr>
              <a:t>Top val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6080" y="3160800"/>
            <a:ext cx="215100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Arial"/>
              </a:rPr>
              <a:t>Maxim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4451400"/>
            <a:ext cx="215100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i="1" lang="nl-NL" sz="1900" spc="-1" strike="noStrike">
                <a:solidFill>
                  <a:srgbClr val="000000"/>
                </a:solidFill>
                <a:latin typeface="Arial"/>
              </a:rPr>
              <a:t>Orientation val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589720"/>
            <a:ext cx="215100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i="1" lang="nl-NL" sz="1900" spc="-1" strike="noStrike">
                <a:solidFill>
                  <a:srgbClr val="99cc00"/>
                </a:solidFill>
                <a:latin typeface="Arial"/>
              </a:rPr>
              <a:t>Target val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801880" y="1227240"/>
            <a:ext cx="5262480" cy="4784760"/>
            <a:chOff x="2801880" y="1227240"/>
            <a:chExt cx="5262480" cy="4784760"/>
          </a:xfrm>
        </p:grpSpPr>
        <p:sp>
          <p:nvSpPr>
            <p:cNvPr id="106" name=""/>
            <p:cNvSpPr/>
            <p:nvPr/>
          </p:nvSpPr>
          <p:spPr>
            <a:xfrm>
              <a:off x="5433480" y="1227240"/>
              <a:ext cx="2630880" cy="4784760"/>
            </a:xfrm>
            <a:prstGeom prst="rect">
              <a:avLst/>
            </a:pr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01880" y="1227240"/>
              <a:ext cx="2630520" cy="4784760"/>
            </a:xfrm>
            <a:prstGeom prst="rect">
              <a:avLst/>
            </a:pr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01880" y="1227240"/>
              <a:ext cx="263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 algn="ct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nl-NL" sz="2100" spc="-1" strike="noStrike">
                  <a:solidFill>
                    <a:srgbClr val="000099"/>
                  </a:solidFill>
                  <a:latin typeface="Arial"/>
                </a:rPr>
                <a:t>Current situ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33480" y="1227240"/>
              <a:ext cx="263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 algn="ct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nl-NL" sz="2100" spc="-1" strike="noStrike">
                  <a:solidFill>
                    <a:srgbClr val="000099"/>
                  </a:solidFill>
                  <a:latin typeface="Arial"/>
                </a:rPr>
                <a:t>New situati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80440" y="2175480"/>
              <a:ext cx="2319120" cy="349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67040" y="2175480"/>
              <a:ext cx="2319120" cy="349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563920" y="2041560"/>
            <a:ext cx="55004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63920" y="5916600"/>
            <a:ext cx="55004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63920" y="4624560"/>
            <a:ext cx="55004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63920" y="3333600"/>
            <a:ext cx="55004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87720" y="3333600"/>
            <a:ext cx="2009880" cy="258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72160" y="4672080"/>
            <a:ext cx="2009880" cy="129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87720" y="3286080"/>
            <a:ext cx="2009880" cy="192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87720" y="5821200"/>
            <a:ext cx="2009880" cy="192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2160" y="4481640"/>
            <a:ext cx="2009880" cy="191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72160" y="5821200"/>
            <a:ext cx="2009880" cy="192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60920" y="3333600"/>
            <a:ext cx="1003320" cy="2583000"/>
          </a:xfrm>
          <a:prstGeom prst="downArrow">
            <a:avLst>
              <a:gd name="adj1" fmla="val 45593"/>
              <a:gd name="adj2" fmla="val 50881"/>
            </a:avLst>
          </a:prstGeom>
          <a:gradFill rotWithShape="0">
            <a:gsLst>
              <a:gs pos="0">
                <a:srgbClr val="ffff00"/>
              </a:gs>
              <a:gs pos="100000">
                <a:srgbClr val="2e8a2e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2708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6720" y="4578480"/>
            <a:ext cx="862200" cy="1290600"/>
          </a:xfrm>
          <a:prstGeom prst="upArrow">
            <a:avLst>
              <a:gd name="adj1" fmla="val 50065"/>
              <a:gd name="adj2" fmla="val 50755"/>
            </a:avLst>
          </a:prstGeom>
          <a:gradFill rotWithShape="0">
            <a:gsLst>
              <a:gs pos="0">
                <a:srgbClr val="ffff00"/>
              </a:gs>
              <a:gs pos="100000">
                <a:srgbClr val="2e8a2e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2708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07920" y="4386240"/>
            <a:ext cx="13186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ALA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51880" y="5056200"/>
            <a:ext cx="13186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ALA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333360"/>
            <a:ext cx="74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Example :   Agreement for W.T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27400" y="1015920"/>
            <a:ext cx="4587840" cy="4992480"/>
            <a:chOff x="4127400" y="1015920"/>
            <a:chExt cx="4587840" cy="4992480"/>
          </a:xfrm>
        </p:grpSpPr>
        <p:sp>
          <p:nvSpPr>
            <p:cNvPr id="128" name=""/>
            <p:cNvSpPr/>
            <p:nvPr/>
          </p:nvSpPr>
          <p:spPr>
            <a:xfrm>
              <a:off x="4228560" y="1362240"/>
              <a:ext cx="4486680" cy="4646160"/>
            </a:xfrm>
            <a:prstGeom prst="rect">
              <a:avLst/>
            </a:prstGeom>
            <a:gradFill rotWithShape="0">
              <a:gsLst>
                <a:gs pos="0">
                  <a:srgbClr val="00009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80040" y="1015920"/>
              <a:ext cx="443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800" spc="-1" strike="noStrike">
                  <a:solidFill>
                    <a:srgbClr val="003366"/>
                  </a:solidFill>
                  <a:latin typeface="Arial"/>
                </a:rPr>
                <a:t>Odour concentration 98-pe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7400" y="1569960"/>
              <a:ext cx="14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8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4240" y="1569960"/>
              <a:ext cx="101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RWZI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649120" y="1444680"/>
              <a:ext cx="721440" cy="4521960"/>
              <a:chOff x="5649120" y="1444680"/>
              <a:chExt cx="721440" cy="4521960"/>
            </a:xfrm>
          </p:grpSpPr>
          <p:sp>
            <p:nvSpPr>
              <p:cNvPr id="133" name=""/>
              <p:cNvSpPr/>
              <p:nvPr/>
            </p:nvSpPr>
            <p:spPr>
              <a:xfrm>
                <a:off x="5649120" y="1444680"/>
                <a:ext cx="721440" cy="4521960"/>
              </a:xfrm>
              <a:custGeom>
                <a:avLst/>
                <a:gdLst>
                  <a:gd name="textAreaLeft" fmla="*/ 34920 w 721440"/>
                  <a:gd name="textAreaRight" fmla="*/ 686520 w 721440"/>
                  <a:gd name="textAreaTop" fmla="*/ 34920 h 4521960"/>
                  <a:gd name="textAreaBottom" fmla="*/ 4487040 h 4521960"/>
                </a:gdLst>
                <a:ahLst/>
                <a:rect l="textAreaLeft" t="textAreaTop" r="textAreaRight" b="textAreaBottom"/>
                <a:pathLst>
                  <a:path w="21600" h="135331">
                    <a:moveTo>
                      <a:pt x="3600" y="0"/>
                    </a:moveTo>
                    <a:arcTo wR="3600" hR="3600" stAng="16200000" swAng="-5400000"/>
                    <a:lnTo>
                      <a:pt x="0" y="131731"/>
                    </a:lnTo>
                    <a:arcTo wR="3600" hR="3600" stAng="10800000" swAng="-5400000"/>
                    <a:lnTo>
                      <a:pt x="18000" y="13533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96633"/>
                  </a:gs>
                  <a:gs pos="100000">
                    <a:srgbClr val="ffcc00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5649120" y="2025360"/>
                <a:ext cx="568800" cy="3733920"/>
                <a:chOff x="5649120" y="2025360"/>
                <a:chExt cx="568800" cy="37339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649120" y="5717520"/>
                  <a:ext cx="568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49120" y="4947480"/>
                  <a:ext cx="568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649120" y="4178160"/>
                  <a:ext cx="568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649120" y="3409200"/>
                  <a:ext cx="568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649120" y="2639880"/>
                  <a:ext cx="568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5649120" y="2486160"/>
                  <a:ext cx="379800" cy="3118680"/>
                  <a:chOff x="5649120" y="2486160"/>
                  <a:chExt cx="379800" cy="31186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5649120" y="5563080"/>
                    <a:ext cx="379800" cy="4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649120" y="4793760"/>
                    <a:ext cx="379800" cy="4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649120" y="4024800"/>
                    <a:ext cx="379800" cy="4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5649120" y="3255480"/>
                    <a:ext cx="379800" cy="4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649120" y="2486160"/>
                    <a:ext cx="379800" cy="4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5649120" y="540936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649120" y="464004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649120" y="387108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49120" y="310176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649120" y="233244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649120" y="525564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649120" y="448668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649120" y="371736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649120" y="294804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649120" y="217872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649120" y="510192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649120" y="433296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649120" y="356364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649120" y="279432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49120" y="2025360"/>
                  <a:ext cx="379800" cy="41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4741920" y="2481120"/>
              <a:ext cx="81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41920" y="3229200"/>
              <a:ext cx="81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41920" y="4021200"/>
              <a:ext cx="81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41920" y="4767480"/>
              <a:ext cx="81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41920" y="5556960"/>
              <a:ext cx="81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0,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161040" y="3400560"/>
            <a:ext cx="2805120" cy="899640"/>
            <a:chOff x="6161040" y="3400560"/>
            <a:chExt cx="2805120" cy="899640"/>
          </a:xfrm>
        </p:grpSpPr>
        <p:sp>
          <p:nvSpPr>
            <p:cNvPr id="167" name=""/>
            <p:cNvSpPr/>
            <p:nvPr/>
          </p:nvSpPr>
          <p:spPr>
            <a:xfrm>
              <a:off x="6161040" y="3932280"/>
              <a:ext cx="514800" cy="3679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61040" y="3400560"/>
              <a:ext cx="514800" cy="367920"/>
            </a:xfrm>
            <a:prstGeom prst="ellipse">
              <a:avLst/>
            </a:prstGeom>
            <a:solidFill>
              <a:srgbClr val="0066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618600" y="3441960"/>
              <a:ext cx="2346840" cy="285480"/>
            </a:xfrm>
            <a:custGeom>
              <a:avLst/>
              <a:gdLst>
                <a:gd name="textAreaLeft" fmla="*/ -360 w 2346840"/>
                <a:gd name="textAreaRight" fmla="*/ 2346840 w 23468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618600" y="3972960"/>
              <a:ext cx="2346840" cy="285840"/>
            </a:xfrm>
            <a:custGeom>
              <a:avLst/>
              <a:gdLst>
                <a:gd name="textAreaLeft" fmla="*/ -360 w 2346840"/>
                <a:gd name="textAreaRight" fmla="*/ 2346840 w 23468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05880" y="4015440"/>
              <a:ext cx="200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200" spc="-1" strike="noStrike">
                  <a:solidFill>
                    <a:srgbClr val="ffffff"/>
                  </a:solidFill>
                  <a:latin typeface="Arial"/>
                </a:rPr>
                <a:t>Core Ex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05880" y="3460680"/>
              <a:ext cx="20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200" spc="-1" strike="noStrike">
                  <a:solidFill>
                    <a:srgbClr val="ffffff"/>
                  </a:solidFill>
                  <a:latin typeface="Arial"/>
                </a:rPr>
                <a:t>Existing  V.W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213600" y="4422600"/>
            <a:ext cx="2739240" cy="756360"/>
            <a:chOff x="6213600" y="4422600"/>
            <a:chExt cx="2739240" cy="756360"/>
          </a:xfrm>
        </p:grpSpPr>
        <p:sp>
          <p:nvSpPr>
            <p:cNvPr id="174" name=""/>
            <p:cNvSpPr/>
            <p:nvPr/>
          </p:nvSpPr>
          <p:spPr>
            <a:xfrm>
              <a:off x="6213600" y="4793400"/>
              <a:ext cx="502920" cy="3510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13600" y="4422600"/>
              <a:ext cx="502920" cy="351000"/>
            </a:xfrm>
            <a:prstGeom prst="ellipse">
              <a:avLst/>
            </a:prstGeom>
            <a:solidFill>
              <a:srgbClr val="0066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660360" y="4833000"/>
              <a:ext cx="2292120" cy="27288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660360" y="4442040"/>
              <a:ext cx="2292120" cy="27288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41160" y="4871880"/>
              <a:ext cx="195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400" spc="-1" strike="noStrike">
                  <a:solidFill>
                    <a:srgbClr val="ffffff"/>
                  </a:solidFill>
                  <a:latin typeface="Arial"/>
                </a:rPr>
                <a:t>New c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41160" y="4480920"/>
              <a:ext cx="195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New V.W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95280" y="1341360"/>
            <a:ext cx="391464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Arial"/>
              </a:rPr>
              <a:t>EMISSION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All different parts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Surface of Settling T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1" i="1" lang="en-GB" sz="1600" spc="-1" strike="noStrike">
                <a:solidFill>
                  <a:srgbClr val="003366"/>
                </a:solidFill>
                <a:latin typeface="Arial"/>
              </a:rPr>
              <a:t>Proces related parameter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Normally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Sometimes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Seldom appl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333360"/>
            <a:ext cx="75708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i="1" lang="nl-NL" sz="23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nl-NL" sz="3200" spc="-1" strike="noStrike">
                <a:solidFill>
                  <a:srgbClr val="003366"/>
                </a:solidFill>
                <a:latin typeface="Arial"/>
              </a:rPr>
              <a:t>How do we choose in other cas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81560" y="1077840"/>
            <a:ext cx="3717720" cy="4792680"/>
            <a:chOff x="3481560" y="1077840"/>
            <a:chExt cx="3717720" cy="4792680"/>
          </a:xfrm>
        </p:grpSpPr>
        <p:sp>
          <p:nvSpPr>
            <p:cNvPr id="183" name=""/>
            <p:cNvSpPr/>
            <p:nvPr/>
          </p:nvSpPr>
          <p:spPr>
            <a:xfrm>
              <a:off x="3563280" y="1410480"/>
              <a:ext cx="3635640" cy="4460040"/>
            </a:xfrm>
            <a:prstGeom prst="rect">
              <a:avLst/>
            </a:prstGeom>
            <a:gradFill rotWithShape="0">
              <a:gsLst>
                <a:gs pos="0">
                  <a:srgbClr val="00009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05400" y="1077840"/>
              <a:ext cx="359388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nl-NL" sz="19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i="1" lang="nl-NL" sz="1900" spc="-1" strike="noStrike">
                  <a:solidFill>
                    <a:srgbClr val="003366"/>
                  </a:solidFill>
                  <a:latin typeface="Arial"/>
                </a:rPr>
                <a:t>Odour burden 98 – perc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81560" y="1609560"/>
              <a:ext cx="11574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 algn="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81280" y="1609560"/>
              <a:ext cx="8258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714560" y="1489320"/>
              <a:ext cx="584640" cy="4340520"/>
              <a:chOff x="4714560" y="1489320"/>
              <a:chExt cx="584640" cy="4340520"/>
            </a:xfrm>
          </p:grpSpPr>
          <p:sp>
            <p:nvSpPr>
              <p:cNvPr id="188" name=""/>
              <p:cNvSpPr/>
              <p:nvPr/>
            </p:nvSpPr>
            <p:spPr>
              <a:xfrm>
                <a:off x="4714560" y="1489320"/>
                <a:ext cx="584640" cy="4340520"/>
              </a:xfrm>
              <a:custGeom>
                <a:avLst/>
                <a:gdLst>
                  <a:gd name="textAreaLeft" fmla="*/ 28440 w 584640"/>
                  <a:gd name="textAreaRight" fmla="*/ 556200 w 584640"/>
                  <a:gd name="textAreaTop" fmla="*/ 28440 h 4340520"/>
                  <a:gd name="textAreaBottom" fmla="*/ 4312080 h 4340520"/>
                </a:gdLst>
                <a:ahLst/>
                <a:rect l="textAreaLeft" t="textAreaTop" r="textAreaRight" b="textAreaBottom"/>
                <a:pathLst>
                  <a:path w="21600" h="160279">
                    <a:moveTo>
                      <a:pt x="3600" y="0"/>
                    </a:moveTo>
                    <a:arcTo wR="3600" hR="3600" stAng="16200000" swAng="-5400000"/>
                    <a:lnTo>
                      <a:pt x="0" y="156679"/>
                    </a:lnTo>
                    <a:arcTo wR="3600" hR="3600" stAng="10800000" swAng="-5400000"/>
                    <a:lnTo>
                      <a:pt x="18000" y="16027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96633"/>
                  </a:gs>
                  <a:gs pos="100000">
                    <a:srgbClr val="ffcc00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714560" y="2046600"/>
                <a:ext cx="460800" cy="3584520"/>
                <a:chOff x="4714560" y="2046600"/>
                <a:chExt cx="460800" cy="3584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714560" y="5590800"/>
                  <a:ext cx="460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14560" y="4851360"/>
                  <a:ext cx="460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714560" y="4113000"/>
                  <a:ext cx="460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14560" y="3374640"/>
                  <a:ext cx="460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714560" y="2636280"/>
                  <a:ext cx="460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714560" y="2488680"/>
                  <a:ext cx="307800" cy="2993760"/>
                  <a:chOff x="4714560" y="2488680"/>
                  <a:chExt cx="307800" cy="29937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714560" y="5442120"/>
                    <a:ext cx="307800" cy="4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714560" y="4703400"/>
                    <a:ext cx="307800" cy="4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714560" y="3965400"/>
                    <a:ext cx="307800" cy="3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714560" y="3227040"/>
                    <a:ext cx="307800" cy="4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4714560" y="2488680"/>
                    <a:ext cx="307800" cy="4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714560" y="529488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714560" y="455652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714560" y="381816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714560" y="307980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714560" y="2341440"/>
                  <a:ext cx="307800" cy="39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14560" y="514728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714560" y="4408920"/>
                  <a:ext cx="307800" cy="39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14560" y="367056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714560" y="293220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714560" y="219384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714560" y="499968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714560" y="426168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14560" y="352296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14560" y="2784960"/>
                  <a:ext cx="307800" cy="39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14560" y="204660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3978720" y="2485800"/>
              <a:ext cx="6602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 algn="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78720" y="3201480"/>
              <a:ext cx="6602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 algn="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78720" y="3962520"/>
              <a:ext cx="6602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 algn="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78720" y="4680000"/>
              <a:ext cx="6602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 algn="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78720" y="5436000"/>
              <a:ext cx="6602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 algn="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969160" y="2895480"/>
            <a:ext cx="2131560" cy="876600"/>
            <a:chOff x="5969160" y="2895480"/>
            <a:chExt cx="2131560" cy="876600"/>
          </a:xfrm>
        </p:grpSpPr>
        <p:sp>
          <p:nvSpPr>
            <p:cNvPr id="222" name=""/>
            <p:cNvSpPr/>
            <p:nvPr/>
          </p:nvSpPr>
          <p:spPr>
            <a:xfrm>
              <a:off x="5969160" y="3413520"/>
              <a:ext cx="391320" cy="3585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69160" y="2895480"/>
              <a:ext cx="391320" cy="358200"/>
            </a:xfrm>
            <a:prstGeom prst="ellipse">
              <a:avLst/>
            </a:prstGeom>
            <a:solidFill>
              <a:srgbClr val="0066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317280" y="2935800"/>
              <a:ext cx="1783440" cy="278280"/>
            </a:xfrm>
            <a:custGeom>
              <a:avLst/>
              <a:gdLst>
                <a:gd name="textAreaLeft" fmla="*/ 360 w 1783440"/>
                <a:gd name="textAreaRight" fmla="*/ 1784160 w 178344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17280" y="3453120"/>
              <a:ext cx="1783440" cy="278280"/>
            </a:xfrm>
            <a:custGeom>
              <a:avLst/>
              <a:gdLst>
                <a:gd name="textAreaLeft" fmla="*/ 360 w 1783440"/>
                <a:gd name="textAreaRight" fmla="*/ 1784160 w 178344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34000" y="3492720"/>
              <a:ext cx="15235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BUSY C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34000" y="2954160"/>
              <a:ext cx="15667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INDUSTRIAL S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969160" y="4714920"/>
            <a:ext cx="2023200" cy="736560"/>
            <a:chOff x="5969160" y="4714920"/>
            <a:chExt cx="2023200" cy="736560"/>
          </a:xfrm>
        </p:grpSpPr>
        <p:sp>
          <p:nvSpPr>
            <p:cNvPr id="229" name=""/>
            <p:cNvSpPr/>
            <p:nvPr/>
          </p:nvSpPr>
          <p:spPr>
            <a:xfrm>
              <a:off x="5969160" y="5093280"/>
              <a:ext cx="371520" cy="3582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69160" y="4714920"/>
              <a:ext cx="371520" cy="358200"/>
            </a:xfrm>
            <a:prstGeom prst="ellipse">
              <a:avLst/>
            </a:prstGeom>
            <a:solidFill>
              <a:srgbClr val="0066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298920" y="5133600"/>
              <a:ext cx="1693080" cy="278280"/>
            </a:xfrm>
            <a:custGeom>
              <a:avLst/>
              <a:gdLst>
                <a:gd name="textAreaLeft" fmla="*/ -360 w 1693080"/>
                <a:gd name="textAreaRight" fmla="*/ 1693080 w 169308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298920" y="4734720"/>
              <a:ext cx="1693080" cy="278280"/>
            </a:xfrm>
            <a:custGeom>
              <a:avLst/>
              <a:gdLst>
                <a:gd name="textAreaLeft" fmla="*/ -360 w 1693080"/>
                <a:gd name="textAreaRight" fmla="*/ 1693080 w 169308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05560" y="5173200"/>
              <a:ext cx="144648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NATIONAL PA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05560" y="4775400"/>
              <a:ext cx="14464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QUIET C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72600" y="1087560"/>
            <a:ext cx="3580920" cy="4779360"/>
            <a:chOff x="372600" y="1087560"/>
            <a:chExt cx="3580920" cy="4779360"/>
          </a:xfrm>
        </p:grpSpPr>
        <p:sp>
          <p:nvSpPr>
            <p:cNvPr id="236" name=""/>
            <p:cNvSpPr/>
            <p:nvPr/>
          </p:nvSpPr>
          <p:spPr>
            <a:xfrm>
              <a:off x="473040" y="1406160"/>
              <a:ext cx="3264120" cy="4460760"/>
            </a:xfrm>
            <a:prstGeom prst="rect">
              <a:avLst/>
            </a:prstGeom>
            <a:gradFill rotWithShape="0">
              <a:gsLst>
                <a:gs pos="0">
                  <a:srgbClr val="00009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8160" y="5089320"/>
              <a:ext cx="7869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t">
              <a:spAutoFit/>
            </a:bodyPr>
            <a:p>
              <a:pPr algn="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nl-NL" sz="2000" spc="-1" strike="noStrike">
                  <a:solidFill>
                    <a:srgbClr val="ffffff"/>
                  </a:solidFill>
                  <a:latin typeface="Arial"/>
                </a:rPr>
                <a:t>Go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9480" y="4368960"/>
              <a:ext cx="111456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t">
              <a:spAutoFit/>
            </a:bodyPr>
            <a:p>
              <a:pPr algn="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nl-NL" sz="1900" spc="-1" strike="noStrike">
                  <a:solidFill>
                    <a:srgbClr val="ffffff"/>
                  </a:solidFill>
                  <a:latin typeface="Arial"/>
                </a:rPr>
                <a:t>Possibl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9400" y="3614760"/>
              <a:ext cx="103392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t">
              <a:spAutoFit/>
            </a:bodyPr>
            <a:p>
              <a:pPr algn="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Arial"/>
                </a:rPr>
                <a:t>Mediu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9800" y="2880000"/>
              <a:ext cx="985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 algn="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B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8120" y="2213280"/>
              <a:ext cx="11970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t">
              <a:spAutoFit/>
            </a:bodyPr>
            <a:p>
              <a:pPr algn="r"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nl-NL" sz="2000" spc="-1" strike="noStrike">
                  <a:solidFill>
                    <a:srgbClr val="ffffff"/>
                  </a:solidFill>
                  <a:latin typeface="Arial"/>
                </a:rPr>
                <a:t>Very b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757520" y="1485360"/>
              <a:ext cx="584640" cy="4341600"/>
              <a:chOff x="1757520" y="1485360"/>
              <a:chExt cx="584640" cy="4341600"/>
            </a:xfrm>
          </p:grpSpPr>
          <p:sp>
            <p:nvSpPr>
              <p:cNvPr id="243" name=""/>
              <p:cNvSpPr/>
              <p:nvPr/>
            </p:nvSpPr>
            <p:spPr>
              <a:xfrm>
                <a:off x="1757520" y="1485360"/>
                <a:ext cx="584640" cy="4341600"/>
              </a:xfrm>
              <a:custGeom>
                <a:avLst/>
                <a:gdLst>
                  <a:gd name="textAreaLeft" fmla="*/ 28440 w 584640"/>
                  <a:gd name="textAreaRight" fmla="*/ 556200 w 584640"/>
                  <a:gd name="textAreaTop" fmla="*/ 28440 h 4341600"/>
                  <a:gd name="textAreaBottom" fmla="*/ 4313160 h 4341600"/>
                </a:gdLst>
                <a:ahLst/>
                <a:rect l="textAreaLeft" t="textAreaTop" r="textAreaRight" b="textAreaBottom"/>
                <a:pathLst>
                  <a:path w="21600" h="160319">
                    <a:moveTo>
                      <a:pt x="3600" y="0"/>
                    </a:moveTo>
                    <a:arcTo wR="3600" hR="3600" stAng="16200000" swAng="-5400000"/>
                    <a:lnTo>
                      <a:pt x="0" y="156719"/>
                    </a:lnTo>
                    <a:arcTo wR="3600" hR="3600" stAng="10800000" swAng="-5400000"/>
                    <a:lnTo>
                      <a:pt x="18000" y="1603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96633"/>
                  </a:gs>
                  <a:gs pos="100000">
                    <a:srgbClr val="ffcc00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757520" y="2042640"/>
                <a:ext cx="460800" cy="3585600"/>
                <a:chOff x="1757520" y="2042640"/>
                <a:chExt cx="460800" cy="35856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757520" y="5587920"/>
                  <a:ext cx="460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757520" y="4848480"/>
                  <a:ext cx="460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757520" y="4109760"/>
                  <a:ext cx="460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757520" y="3371040"/>
                  <a:ext cx="460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757520" y="2632680"/>
                  <a:ext cx="460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1757520" y="2485080"/>
                  <a:ext cx="307800" cy="2994840"/>
                  <a:chOff x="1757520" y="2485080"/>
                  <a:chExt cx="307800" cy="299484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1757520" y="5439600"/>
                    <a:ext cx="307800" cy="4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757520" y="4700880"/>
                    <a:ext cx="307800" cy="4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757520" y="3962160"/>
                    <a:ext cx="307800" cy="3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1757520" y="3223440"/>
                    <a:ext cx="307800" cy="4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1757520" y="2485080"/>
                    <a:ext cx="307800" cy="403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1757520" y="529200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757520" y="455328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57520" y="381456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757520" y="307620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757520" y="2337480"/>
                  <a:ext cx="307800" cy="39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757520" y="514440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757520" y="4405680"/>
                  <a:ext cx="307800" cy="39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757520" y="366732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757520" y="292860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757520" y="218988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757520" y="499680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757520" y="425808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757520" y="351972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757520" y="2781000"/>
                  <a:ext cx="307800" cy="39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757520" y="2042640"/>
                  <a:ext cx="307800" cy="40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"/>
            <p:cNvSpPr/>
            <p:nvPr/>
          </p:nvSpPr>
          <p:spPr>
            <a:xfrm>
              <a:off x="2393280" y="2189520"/>
              <a:ext cx="648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Arial"/>
                </a:rPr>
                <a:t>&gt; 4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93280" y="2840400"/>
              <a:ext cx="951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Arial"/>
                </a:rPr>
                <a:t>25 - 4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3280" y="3593880"/>
              <a:ext cx="951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Arial"/>
                </a:rPr>
                <a:t>15 - 2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93280" y="4351680"/>
              <a:ext cx="951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Arial"/>
                </a:rPr>
                <a:t>10 - 1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93640" y="5070960"/>
              <a:ext cx="803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en-US" sz="2100" spc="-1" strike="noStrike">
                  <a:solidFill>
                    <a:srgbClr val="ffffff"/>
                  </a:solidFill>
                  <a:latin typeface="Arial"/>
                </a:rPr>
                <a:t>5 - 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80320" y="1498320"/>
              <a:ext cx="15732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nl-NL" sz="1500" spc="-1" strike="noStrike">
                  <a:solidFill>
                    <a:srgbClr val="ffffff"/>
                  </a:solidFill>
                  <a:latin typeface="Arial"/>
                </a:rPr>
                <a:t>percenta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nl-NL" sz="1500" spc="-1" strike="noStrike">
                  <a:solidFill>
                    <a:srgbClr val="ffffff"/>
                  </a:solidFill>
                  <a:latin typeface="Arial"/>
                </a:rPr>
                <a:t>Odour nuis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600" y="1498320"/>
              <a:ext cx="1500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nl-NL" sz="1500" spc="-1" strike="noStrike">
                  <a:solidFill>
                    <a:srgbClr val="ffffff"/>
                  </a:solidFill>
                  <a:latin typeface="Arial"/>
                </a:rPr>
                <a:t>Environment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nl-NL" sz="15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3040" y="1087560"/>
              <a:ext cx="326412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240" bIns="30240" anchor="t">
              <a:spAutoFit/>
            </a:bodyPr>
            <a:p>
              <a:pPr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i="1" lang="nl-NL" sz="1900" spc="-1" strike="noStrike">
                  <a:solidFill>
                    <a:srgbClr val="003366"/>
                  </a:solidFill>
                  <a:latin typeface="Arial"/>
                </a:rPr>
                <a:t>Standard View on …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681520" y="1555920"/>
            <a:ext cx="12812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3800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Situation in the Netherlan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Our policy and practice in genera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Industry : </a:t>
            </a: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odour control in detai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Agriculture: regulations and resul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Conclusions and recommand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3800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Overview of the Legisl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dour Nuisance and Livestock Farming 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 force since January 2007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st of tolerated systems of production and odour redu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mmission standards on sensitive objec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pecified Emission fac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pecially made Dispersion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899320" cy="45403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2709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Sour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12000" y="1628640"/>
            <a:ext cx="31320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Stabl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X-,Y-coordinat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Point of emission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Hight of the emission poi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Average building hight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Types of st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189000"/>
            <a:ext cx="72705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Describing the odour nuis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77738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Livestock keeping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            -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→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surroundings     -→                  odour sensitive 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    build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emission (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ouE/s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                  weather conditions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 odour lo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Number of animals 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                    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type of 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terrain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(ouE/m3 als 98-perc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Type of livestoc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5445000"/>
            <a:ext cx="403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63400" y="4605480"/>
            <a:ext cx="0" cy="83808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697120" y="4605480"/>
            <a:ext cx="0" cy="83808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1630440" y="3995280"/>
            <a:ext cx="441360" cy="24948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868320" y="4071960"/>
            <a:ext cx="0" cy="38088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173240" y="4071960"/>
            <a:ext cx="0" cy="38088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54520" y="544356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63400" y="4452480"/>
            <a:ext cx="304920" cy="18252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173240" y="3995280"/>
            <a:ext cx="441360" cy="24948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944640" y="376668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096920" y="376668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392200" y="4452480"/>
            <a:ext cx="309600" cy="17316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392200" y="4148280"/>
            <a:ext cx="0" cy="30456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087640" y="4148280"/>
            <a:ext cx="0" cy="30456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163600" y="384300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316240" y="3843000"/>
            <a:ext cx="0" cy="3049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507000" y="4605480"/>
            <a:ext cx="0" cy="838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431040" y="3995280"/>
            <a:ext cx="457200" cy="7621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6888240" y="3995280"/>
            <a:ext cx="457200" cy="7621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269120" y="4605480"/>
            <a:ext cx="0" cy="838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00000" y="2781360"/>
            <a:ext cx="7201080" cy="2489040"/>
          </a:xfrm>
          <a:custGeom>
            <a:avLst/>
            <a:gdLst/>
            <a:ahLst/>
            <a:rect l="l" t="t" r="r" b="b"/>
            <a:pathLst>
              <a:path w="4536" h="1568">
                <a:moveTo>
                  <a:pt x="66" y="595"/>
                </a:moveTo>
                <a:cubicBezTo>
                  <a:pt x="70" y="607"/>
                  <a:pt x="86" y="638"/>
                  <a:pt x="60" y="647"/>
                </a:cubicBezTo>
                <a:cubicBezTo>
                  <a:pt x="45" y="652"/>
                  <a:pt x="30" y="638"/>
                  <a:pt x="15" y="634"/>
                </a:cubicBezTo>
                <a:cubicBezTo>
                  <a:pt x="2" y="615"/>
                  <a:pt x="0" y="582"/>
                  <a:pt x="22" y="563"/>
                </a:cubicBezTo>
                <a:cubicBezTo>
                  <a:pt x="30" y="556"/>
                  <a:pt x="43" y="559"/>
                  <a:pt x="54" y="557"/>
                </a:cubicBezTo>
                <a:cubicBezTo>
                  <a:pt x="82" y="559"/>
                  <a:pt x="111" y="552"/>
                  <a:pt x="137" y="563"/>
                </a:cubicBezTo>
                <a:cubicBezTo>
                  <a:pt x="145" y="566"/>
                  <a:pt x="138" y="585"/>
                  <a:pt x="130" y="589"/>
                </a:cubicBezTo>
                <a:cubicBezTo>
                  <a:pt x="120" y="594"/>
                  <a:pt x="109" y="585"/>
                  <a:pt x="98" y="583"/>
                </a:cubicBezTo>
                <a:cubicBezTo>
                  <a:pt x="137" y="558"/>
                  <a:pt x="113" y="580"/>
                  <a:pt x="92" y="563"/>
                </a:cubicBezTo>
                <a:cubicBezTo>
                  <a:pt x="87" y="559"/>
                  <a:pt x="88" y="550"/>
                  <a:pt x="86" y="544"/>
                </a:cubicBezTo>
                <a:cubicBezTo>
                  <a:pt x="99" y="490"/>
                  <a:pt x="105" y="482"/>
                  <a:pt x="150" y="455"/>
                </a:cubicBezTo>
                <a:cubicBezTo>
                  <a:pt x="167" y="461"/>
                  <a:pt x="187" y="462"/>
                  <a:pt x="201" y="474"/>
                </a:cubicBezTo>
                <a:cubicBezTo>
                  <a:pt x="226" y="496"/>
                  <a:pt x="201" y="549"/>
                  <a:pt x="175" y="557"/>
                </a:cubicBezTo>
                <a:cubicBezTo>
                  <a:pt x="141" y="553"/>
                  <a:pt x="106" y="554"/>
                  <a:pt x="73" y="544"/>
                </a:cubicBezTo>
                <a:cubicBezTo>
                  <a:pt x="33" y="531"/>
                  <a:pt x="67" y="465"/>
                  <a:pt x="73" y="455"/>
                </a:cubicBezTo>
                <a:cubicBezTo>
                  <a:pt x="76" y="450"/>
                  <a:pt x="129" y="429"/>
                  <a:pt x="130" y="429"/>
                </a:cubicBezTo>
                <a:cubicBezTo>
                  <a:pt x="147" y="431"/>
                  <a:pt x="166" y="427"/>
                  <a:pt x="182" y="435"/>
                </a:cubicBezTo>
                <a:cubicBezTo>
                  <a:pt x="191" y="439"/>
                  <a:pt x="194" y="451"/>
                  <a:pt x="194" y="461"/>
                </a:cubicBezTo>
                <a:cubicBezTo>
                  <a:pt x="194" y="519"/>
                  <a:pt x="177" y="530"/>
                  <a:pt x="130" y="544"/>
                </a:cubicBezTo>
                <a:cubicBezTo>
                  <a:pt x="109" y="540"/>
                  <a:pt x="85" y="541"/>
                  <a:pt x="66" y="531"/>
                </a:cubicBezTo>
                <a:cubicBezTo>
                  <a:pt x="58" y="527"/>
                  <a:pt x="58" y="514"/>
                  <a:pt x="54" y="506"/>
                </a:cubicBezTo>
                <a:cubicBezTo>
                  <a:pt x="51" y="500"/>
                  <a:pt x="40" y="488"/>
                  <a:pt x="47" y="487"/>
                </a:cubicBezTo>
                <a:cubicBezTo>
                  <a:pt x="92" y="482"/>
                  <a:pt x="137" y="491"/>
                  <a:pt x="182" y="493"/>
                </a:cubicBezTo>
                <a:cubicBezTo>
                  <a:pt x="204" y="508"/>
                  <a:pt x="212" y="519"/>
                  <a:pt x="220" y="544"/>
                </a:cubicBezTo>
                <a:cubicBezTo>
                  <a:pt x="218" y="555"/>
                  <a:pt x="224" y="573"/>
                  <a:pt x="214" y="576"/>
                </a:cubicBezTo>
                <a:cubicBezTo>
                  <a:pt x="165" y="592"/>
                  <a:pt x="164" y="569"/>
                  <a:pt x="156" y="544"/>
                </a:cubicBezTo>
                <a:cubicBezTo>
                  <a:pt x="175" y="465"/>
                  <a:pt x="289" y="503"/>
                  <a:pt x="335" y="551"/>
                </a:cubicBezTo>
                <a:cubicBezTo>
                  <a:pt x="301" y="595"/>
                  <a:pt x="254" y="601"/>
                  <a:pt x="220" y="551"/>
                </a:cubicBezTo>
                <a:cubicBezTo>
                  <a:pt x="255" y="502"/>
                  <a:pt x="250" y="503"/>
                  <a:pt x="303" y="493"/>
                </a:cubicBezTo>
                <a:cubicBezTo>
                  <a:pt x="335" y="495"/>
                  <a:pt x="368" y="490"/>
                  <a:pt x="399" y="499"/>
                </a:cubicBezTo>
                <a:cubicBezTo>
                  <a:pt x="419" y="505"/>
                  <a:pt x="424" y="537"/>
                  <a:pt x="412" y="551"/>
                </a:cubicBezTo>
                <a:cubicBezTo>
                  <a:pt x="405" y="559"/>
                  <a:pt x="371" y="567"/>
                  <a:pt x="361" y="570"/>
                </a:cubicBezTo>
                <a:cubicBezTo>
                  <a:pt x="323" y="566"/>
                  <a:pt x="283" y="567"/>
                  <a:pt x="246" y="557"/>
                </a:cubicBezTo>
                <a:cubicBezTo>
                  <a:pt x="212" y="548"/>
                  <a:pt x="200" y="475"/>
                  <a:pt x="194" y="448"/>
                </a:cubicBezTo>
                <a:cubicBezTo>
                  <a:pt x="220" y="341"/>
                  <a:pt x="207" y="354"/>
                  <a:pt x="303" y="339"/>
                </a:cubicBezTo>
                <a:cubicBezTo>
                  <a:pt x="335" y="341"/>
                  <a:pt x="368" y="336"/>
                  <a:pt x="399" y="346"/>
                </a:cubicBezTo>
                <a:cubicBezTo>
                  <a:pt x="407" y="349"/>
                  <a:pt x="407" y="362"/>
                  <a:pt x="406" y="371"/>
                </a:cubicBezTo>
                <a:cubicBezTo>
                  <a:pt x="401" y="441"/>
                  <a:pt x="410" y="430"/>
                  <a:pt x="367" y="442"/>
                </a:cubicBezTo>
                <a:cubicBezTo>
                  <a:pt x="348" y="440"/>
                  <a:pt x="328" y="442"/>
                  <a:pt x="310" y="435"/>
                </a:cubicBezTo>
                <a:cubicBezTo>
                  <a:pt x="304" y="432"/>
                  <a:pt x="298" y="420"/>
                  <a:pt x="303" y="416"/>
                </a:cubicBezTo>
                <a:cubicBezTo>
                  <a:pt x="313" y="408"/>
                  <a:pt x="329" y="412"/>
                  <a:pt x="342" y="410"/>
                </a:cubicBezTo>
                <a:cubicBezTo>
                  <a:pt x="398" y="428"/>
                  <a:pt x="407" y="475"/>
                  <a:pt x="425" y="525"/>
                </a:cubicBezTo>
                <a:cubicBezTo>
                  <a:pt x="423" y="540"/>
                  <a:pt x="432" y="565"/>
                  <a:pt x="418" y="570"/>
                </a:cubicBezTo>
                <a:cubicBezTo>
                  <a:pt x="346" y="594"/>
                  <a:pt x="337" y="567"/>
                  <a:pt x="310" y="531"/>
                </a:cubicBezTo>
                <a:cubicBezTo>
                  <a:pt x="345" y="457"/>
                  <a:pt x="391" y="508"/>
                  <a:pt x="418" y="551"/>
                </a:cubicBezTo>
                <a:cubicBezTo>
                  <a:pt x="428" y="596"/>
                  <a:pt x="440" y="612"/>
                  <a:pt x="386" y="602"/>
                </a:cubicBezTo>
                <a:cubicBezTo>
                  <a:pt x="365" y="568"/>
                  <a:pt x="341" y="518"/>
                  <a:pt x="393" y="499"/>
                </a:cubicBezTo>
                <a:cubicBezTo>
                  <a:pt x="489" y="515"/>
                  <a:pt x="513" y="506"/>
                  <a:pt x="572" y="563"/>
                </a:cubicBezTo>
                <a:cubicBezTo>
                  <a:pt x="582" y="595"/>
                  <a:pt x="599" y="623"/>
                  <a:pt x="578" y="659"/>
                </a:cubicBezTo>
                <a:cubicBezTo>
                  <a:pt x="571" y="671"/>
                  <a:pt x="553" y="672"/>
                  <a:pt x="540" y="679"/>
                </a:cubicBezTo>
                <a:cubicBezTo>
                  <a:pt x="519" y="675"/>
                  <a:pt x="496" y="675"/>
                  <a:pt x="476" y="666"/>
                </a:cubicBezTo>
                <a:cubicBezTo>
                  <a:pt x="459" y="658"/>
                  <a:pt x="481" y="616"/>
                  <a:pt x="482" y="615"/>
                </a:cubicBezTo>
                <a:cubicBezTo>
                  <a:pt x="488" y="609"/>
                  <a:pt x="499" y="610"/>
                  <a:pt x="508" y="608"/>
                </a:cubicBezTo>
                <a:cubicBezTo>
                  <a:pt x="540" y="612"/>
                  <a:pt x="573" y="612"/>
                  <a:pt x="604" y="621"/>
                </a:cubicBezTo>
                <a:cubicBezTo>
                  <a:pt x="613" y="623"/>
                  <a:pt x="631" y="636"/>
                  <a:pt x="623" y="640"/>
                </a:cubicBezTo>
                <a:cubicBezTo>
                  <a:pt x="609" y="647"/>
                  <a:pt x="593" y="636"/>
                  <a:pt x="578" y="634"/>
                </a:cubicBezTo>
                <a:cubicBezTo>
                  <a:pt x="527" y="597"/>
                  <a:pt x="547" y="614"/>
                  <a:pt x="514" y="583"/>
                </a:cubicBezTo>
                <a:cubicBezTo>
                  <a:pt x="512" y="576"/>
                  <a:pt x="503" y="568"/>
                  <a:pt x="508" y="563"/>
                </a:cubicBezTo>
                <a:cubicBezTo>
                  <a:pt x="516" y="555"/>
                  <a:pt x="529" y="559"/>
                  <a:pt x="540" y="557"/>
                </a:cubicBezTo>
                <a:cubicBezTo>
                  <a:pt x="557" y="553"/>
                  <a:pt x="574" y="548"/>
                  <a:pt x="591" y="544"/>
                </a:cubicBezTo>
                <a:cubicBezTo>
                  <a:pt x="573" y="532"/>
                  <a:pt x="552" y="525"/>
                  <a:pt x="534" y="512"/>
                </a:cubicBezTo>
                <a:cubicBezTo>
                  <a:pt x="516" y="499"/>
                  <a:pt x="483" y="458"/>
                  <a:pt x="470" y="442"/>
                </a:cubicBezTo>
                <a:cubicBezTo>
                  <a:pt x="467" y="434"/>
                  <a:pt x="449" y="392"/>
                  <a:pt x="450" y="391"/>
                </a:cubicBezTo>
                <a:cubicBezTo>
                  <a:pt x="482" y="337"/>
                  <a:pt x="530" y="335"/>
                  <a:pt x="585" y="327"/>
                </a:cubicBezTo>
                <a:cubicBezTo>
                  <a:pt x="626" y="332"/>
                  <a:pt x="752" y="327"/>
                  <a:pt x="796" y="371"/>
                </a:cubicBezTo>
                <a:cubicBezTo>
                  <a:pt x="784" y="412"/>
                  <a:pt x="714" y="427"/>
                  <a:pt x="674" y="435"/>
                </a:cubicBezTo>
                <a:cubicBezTo>
                  <a:pt x="606" y="427"/>
                  <a:pt x="613" y="430"/>
                  <a:pt x="598" y="365"/>
                </a:cubicBezTo>
                <a:cubicBezTo>
                  <a:pt x="645" y="333"/>
                  <a:pt x="667" y="400"/>
                  <a:pt x="681" y="435"/>
                </a:cubicBezTo>
                <a:cubicBezTo>
                  <a:pt x="691" y="460"/>
                  <a:pt x="706" y="512"/>
                  <a:pt x="706" y="512"/>
                </a:cubicBezTo>
                <a:cubicBezTo>
                  <a:pt x="698" y="569"/>
                  <a:pt x="691" y="556"/>
                  <a:pt x="674" y="602"/>
                </a:cubicBezTo>
                <a:cubicBezTo>
                  <a:pt x="681" y="608"/>
                  <a:pt x="692" y="612"/>
                  <a:pt x="694" y="621"/>
                </a:cubicBezTo>
                <a:cubicBezTo>
                  <a:pt x="695" y="629"/>
                  <a:pt x="689" y="639"/>
                  <a:pt x="681" y="640"/>
                </a:cubicBezTo>
                <a:cubicBezTo>
                  <a:pt x="676" y="641"/>
                  <a:pt x="642" y="619"/>
                  <a:pt x="636" y="615"/>
                </a:cubicBezTo>
                <a:cubicBezTo>
                  <a:pt x="617" y="532"/>
                  <a:pt x="701" y="573"/>
                  <a:pt x="777" y="576"/>
                </a:cubicBezTo>
                <a:cubicBezTo>
                  <a:pt x="783" y="594"/>
                  <a:pt x="797" y="635"/>
                  <a:pt x="790" y="647"/>
                </a:cubicBezTo>
                <a:cubicBezTo>
                  <a:pt x="785" y="657"/>
                  <a:pt x="769" y="642"/>
                  <a:pt x="758" y="640"/>
                </a:cubicBezTo>
                <a:cubicBezTo>
                  <a:pt x="705" y="605"/>
                  <a:pt x="778" y="625"/>
                  <a:pt x="790" y="627"/>
                </a:cubicBezTo>
                <a:cubicBezTo>
                  <a:pt x="796" y="646"/>
                  <a:pt x="791" y="669"/>
                  <a:pt x="802" y="685"/>
                </a:cubicBezTo>
                <a:cubicBezTo>
                  <a:pt x="806" y="691"/>
                  <a:pt x="804" y="671"/>
                  <a:pt x="809" y="666"/>
                </a:cubicBezTo>
                <a:cubicBezTo>
                  <a:pt x="816" y="659"/>
                  <a:pt x="826" y="657"/>
                  <a:pt x="834" y="653"/>
                </a:cubicBezTo>
                <a:cubicBezTo>
                  <a:pt x="863" y="695"/>
                  <a:pt x="829" y="658"/>
                  <a:pt x="866" y="640"/>
                </a:cubicBezTo>
                <a:cubicBezTo>
                  <a:pt x="873" y="637"/>
                  <a:pt x="879" y="649"/>
                  <a:pt x="886" y="653"/>
                </a:cubicBezTo>
                <a:cubicBezTo>
                  <a:pt x="899" y="611"/>
                  <a:pt x="854" y="599"/>
                  <a:pt x="822" y="583"/>
                </a:cubicBezTo>
                <a:cubicBezTo>
                  <a:pt x="805" y="518"/>
                  <a:pt x="837" y="539"/>
                  <a:pt x="879" y="557"/>
                </a:cubicBezTo>
                <a:cubicBezTo>
                  <a:pt x="900" y="615"/>
                  <a:pt x="879" y="626"/>
                  <a:pt x="834" y="640"/>
                </a:cubicBezTo>
                <a:cubicBezTo>
                  <a:pt x="819" y="638"/>
                  <a:pt x="802" y="642"/>
                  <a:pt x="790" y="634"/>
                </a:cubicBezTo>
                <a:cubicBezTo>
                  <a:pt x="767" y="618"/>
                  <a:pt x="783" y="533"/>
                  <a:pt x="796" y="525"/>
                </a:cubicBezTo>
                <a:cubicBezTo>
                  <a:pt x="805" y="519"/>
                  <a:pt x="817" y="521"/>
                  <a:pt x="828" y="519"/>
                </a:cubicBezTo>
                <a:cubicBezTo>
                  <a:pt x="843" y="521"/>
                  <a:pt x="861" y="516"/>
                  <a:pt x="873" y="525"/>
                </a:cubicBezTo>
                <a:cubicBezTo>
                  <a:pt x="879" y="530"/>
                  <a:pt x="868" y="544"/>
                  <a:pt x="860" y="544"/>
                </a:cubicBezTo>
                <a:cubicBezTo>
                  <a:pt x="841" y="544"/>
                  <a:pt x="794" y="483"/>
                  <a:pt x="783" y="467"/>
                </a:cubicBezTo>
                <a:cubicBezTo>
                  <a:pt x="787" y="454"/>
                  <a:pt x="784" y="435"/>
                  <a:pt x="796" y="429"/>
                </a:cubicBezTo>
                <a:cubicBezTo>
                  <a:pt x="835" y="408"/>
                  <a:pt x="861" y="468"/>
                  <a:pt x="886" y="487"/>
                </a:cubicBezTo>
                <a:cubicBezTo>
                  <a:pt x="888" y="493"/>
                  <a:pt x="892" y="499"/>
                  <a:pt x="892" y="506"/>
                </a:cubicBezTo>
                <a:cubicBezTo>
                  <a:pt x="892" y="594"/>
                  <a:pt x="875" y="547"/>
                  <a:pt x="828" y="519"/>
                </a:cubicBezTo>
                <a:cubicBezTo>
                  <a:pt x="793" y="475"/>
                  <a:pt x="774" y="433"/>
                  <a:pt x="764" y="378"/>
                </a:cubicBezTo>
                <a:cubicBezTo>
                  <a:pt x="768" y="359"/>
                  <a:pt x="759" y="328"/>
                  <a:pt x="777" y="320"/>
                </a:cubicBezTo>
                <a:cubicBezTo>
                  <a:pt x="874" y="277"/>
                  <a:pt x="873" y="307"/>
                  <a:pt x="886" y="352"/>
                </a:cubicBezTo>
                <a:cubicBezTo>
                  <a:pt x="877" y="394"/>
                  <a:pt x="844" y="425"/>
                  <a:pt x="802" y="435"/>
                </a:cubicBezTo>
                <a:cubicBezTo>
                  <a:pt x="779" y="428"/>
                  <a:pt x="764" y="405"/>
                  <a:pt x="783" y="378"/>
                </a:cubicBezTo>
                <a:cubicBezTo>
                  <a:pt x="792" y="365"/>
                  <a:pt x="859" y="352"/>
                  <a:pt x="879" y="346"/>
                </a:cubicBezTo>
                <a:cubicBezTo>
                  <a:pt x="941" y="353"/>
                  <a:pt x="948" y="361"/>
                  <a:pt x="982" y="410"/>
                </a:cubicBezTo>
                <a:cubicBezTo>
                  <a:pt x="992" y="463"/>
                  <a:pt x="972" y="457"/>
                  <a:pt x="924" y="429"/>
                </a:cubicBezTo>
                <a:cubicBezTo>
                  <a:pt x="867" y="395"/>
                  <a:pt x="829" y="347"/>
                  <a:pt x="790" y="295"/>
                </a:cubicBezTo>
                <a:cubicBezTo>
                  <a:pt x="788" y="282"/>
                  <a:pt x="778" y="268"/>
                  <a:pt x="783" y="256"/>
                </a:cubicBezTo>
                <a:cubicBezTo>
                  <a:pt x="836" y="135"/>
                  <a:pt x="866" y="181"/>
                  <a:pt x="994" y="192"/>
                </a:cubicBezTo>
                <a:cubicBezTo>
                  <a:pt x="1055" y="223"/>
                  <a:pt x="1091" y="249"/>
                  <a:pt x="1135" y="301"/>
                </a:cubicBezTo>
                <a:cubicBezTo>
                  <a:pt x="1153" y="363"/>
                  <a:pt x="1195" y="455"/>
                  <a:pt x="1122" y="499"/>
                </a:cubicBezTo>
                <a:cubicBezTo>
                  <a:pt x="1075" y="490"/>
                  <a:pt x="1090" y="484"/>
                  <a:pt x="1065" y="442"/>
                </a:cubicBezTo>
                <a:cubicBezTo>
                  <a:pt x="1069" y="436"/>
                  <a:pt x="1070" y="423"/>
                  <a:pt x="1078" y="423"/>
                </a:cubicBezTo>
                <a:cubicBezTo>
                  <a:pt x="1085" y="423"/>
                  <a:pt x="1088" y="435"/>
                  <a:pt x="1090" y="442"/>
                </a:cubicBezTo>
                <a:cubicBezTo>
                  <a:pt x="1096" y="461"/>
                  <a:pt x="1103" y="499"/>
                  <a:pt x="1103" y="499"/>
                </a:cubicBezTo>
                <a:cubicBezTo>
                  <a:pt x="1097" y="518"/>
                  <a:pt x="1096" y="540"/>
                  <a:pt x="1084" y="557"/>
                </a:cubicBezTo>
                <a:cubicBezTo>
                  <a:pt x="1079" y="564"/>
                  <a:pt x="1066" y="560"/>
                  <a:pt x="1058" y="563"/>
                </a:cubicBezTo>
                <a:cubicBezTo>
                  <a:pt x="966" y="594"/>
                  <a:pt x="1040" y="575"/>
                  <a:pt x="982" y="589"/>
                </a:cubicBezTo>
                <a:cubicBezTo>
                  <a:pt x="975" y="587"/>
                  <a:pt x="963" y="590"/>
                  <a:pt x="962" y="583"/>
                </a:cubicBezTo>
                <a:cubicBezTo>
                  <a:pt x="960" y="574"/>
                  <a:pt x="965" y="559"/>
                  <a:pt x="975" y="557"/>
                </a:cubicBezTo>
                <a:cubicBezTo>
                  <a:pt x="994" y="553"/>
                  <a:pt x="1014" y="566"/>
                  <a:pt x="1033" y="570"/>
                </a:cubicBezTo>
                <a:cubicBezTo>
                  <a:pt x="1041" y="584"/>
                  <a:pt x="1075" y="622"/>
                  <a:pt x="1039" y="640"/>
                </a:cubicBezTo>
                <a:cubicBezTo>
                  <a:pt x="1024" y="648"/>
                  <a:pt x="1005" y="636"/>
                  <a:pt x="988" y="634"/>
                </a:cubicBezTo>
                <a:cubicBezTo>
                  <a:pt x="946" y="573"/>
                  <a:pt x="1025" y="605"/>
                  <a:pt x="1065" y="615"/>
                </a:cubicBezTo>
                <a:cubicBezTo>
                  <a:pt x="1073" y="621"/>
                  <a:pt x="1083" y="627"/>
                  <a:pt x="1090" y="634"/>
                </a:cubicBezTo>
                <a:cubicBezTo>
                  <a:pt x="1095" y="639"/>
                  <a:pt x="1107" y="646"/>
                  <a:pt x="1103" y="653"/>
                </a:cubicBezTo>
                <a:cubicBezTo>
                  <a:pt x="1097" y="663"/>
                  <a:pt x="1082" y="662"/>
                  <a:pt x="1071" y="666"/>
                </a:cubicBezTo>
                <a:cubicBezTo>
                  <a:pt x="1061" y="663"/>
                  <a:pt x="974" y="649"/>
                  <a:pt x="1033" y="627"/>
                </a:cubicBezTo>
                <a:cubicBezTo>
                  <a:pt x="1113" y="643"/>
                  <a:pt x="1092" y="644"/>
                  <a:pt x="1148" y="685"/>
                </a:cubicBezTo>
                <a:cubicBezTo>
                  <a:pt x="1163" y="732"/>
                  <a:pt x="1140" y="763"/>
                  <a:pt x="1097" y="775"/>
                </a:cubicBezTo>
                <a:cubicBezTo>
                  <a:pt x="1048" y="745"/>
                  <a:pt x="1074" y="771"/>
                  <a:pt x="1058" y="723"/>
                </a:cubicBezTo>
                <a:cubicBezTo>
                  <a:pt x="1055" y="714"/>
                  <a:pt x="1037" y="700"/>
                  <a:pt x="1046" y="698"/>
                </a:cubicBezTo>
                <a:cubicBezTo>
                  <a:pt x="1062" y="695"/>
                  <a:pt x="1075" y="711"/>
                  <a:pt x="1090" y="717"/>
                </a:cubicBezTo>
                <a:cubicBezTo>
                  <a:pt x="1111" y="758"/>
                  <a:pt x="1098" y="787"/>
                  <a:pt x="1058" y="807"/>
                </a:cubicBezTo>
                <a:cubicBezTo>
                  <a:pt x="984" y="777"/>
                  <a:pt x="1009" y="719"/>
                  <a:pt x="1046" y="627"/>
                </a:cubicBezTo>
                <a:cubicBezTo>
                  <a:pt x="1059" y="595"/>
                  <a:pt x="1146" y="587"/>
                  <a:pt x="1174" y="583"/>
                </a:cubicBezTo>
                <a:cubicBezTo>
                  <a:pt x="1256" y="592"/>
                  <a:pt x="1216" y="587"/>
                  <a:pt x="1270" y="627"/>
                </a:cubicBezTo>
                <a:cubicBezTo>
                  <a:pt x="1306" y="683"/>
                  <a:pt x="1348" y="718"/>
                  <a:pt x="1372" y="781"/>
                </a:cubicBezTo>
                <a:cubicBezTo>
                  <a:pt x="1376" y="792"/>
                  <a:pt x="1396" y="811"/>
                  <a:pt x="1385" y="813"/>
                </a:cubicBezTo>
                <a:cubicBezTo>
                  <a:pt x="1368" y="816"/>
                  <a:pt x="1355" y="796"/>
                  <a:pt x="1340" y="787"/>
                </a:cubicBezTo>
                <a:cubicBezTo>
                  <a:pt x="1302" y="731"/>
                  <a:pt x="1272" y="673"/>
                  <a:pt x="1238" y="615"/>
                </a:cubicBezTo>
                <a:cubicBezTo>
                  <a:pt x="1193" y="539"/>
                  <a:pt x="1140" y="470"/>
                  <a:pt x="1090" y="397"/>
                </a:cubicBezTo>
                <a:cubicBezTo>
                  <a:pt x="1082" y="363"/>
                  <a:pt x="1071" y="355"/>
                  <a:pt x="1135" y="365"/>
                </a:cubicBezTo>
                <a:cubicBezTo>
                  <a:pt x="1160" y="369"/>
                  <a:pt x="1206" y="391"/>
                  <a:pt x="1206" y="391"/>
                </a:cubicBezTo>
                <a:cubicBezTo>
                  <a:pt x="1216" y="406"/>
                  <a:pt x="1236" y="417"/>
                  <a:pt x="1238" y="435"/>
                </a:cubicBezTo>
                <a:cubicBezTo>
                  <a:pt x="1245" y="486"/>
                  <a:pt x="1118" y="485"/>
                  <a:pt x="1097" y="487"/>
                </a:cubicBezTo>
                <a:cubicBezTo>
                  <a:pt x="1048" y="483"/>
                  <a:pt x="996" y="490"/>
                  <a:pt x="950" y="474"/>
                </a:cubicBezTo>
                <a:cubicBezTo>
                  <a:pt x="916" y="462"/>
                  <a:pt x="861" y="385"/>
                  <a:pt x="834" y="352"/>
                </a:cubicBezTo>
                <a:cubicBezTo>
                  <a:pt x="821" y="310"/>
                  <a:pt x="819" y="327"/>
                  <a:pt x="905" y="327"/>
                </a:cubicBezTo>
                <a:cubicBezTo>
                  <a:pt x="954" y="327"/>
                  <a:pt x="1003" y="331"/>
                  <a:pt x="1052" y="333"/>
                </a:cubicBezTo>
                <a:cubicBezTo>
                  <a:pt x="1192" y="372"/>
                  <a:pt x="1315" y="430"/>
                  <a:pt x="1430" y="519"/>
                </a:cubicBezTo>
                <a:cubicBezTo>
                  <a:pt x="1440" y="536"/>
                  <a:pt x="1481" y="589"/>
                  <a:pt x="1436" y="608"/>
                </a:cubicBezTo>
                <a:cubicBezTo>
                  <a:pt x="1419" y="615"/>
                  <a:pt x="1406" y="586"/>
                  <a:pt x="1391" y="576"/>
                </a:cubicBezTo>
                <a:cubicBezTo>
                  <a:pt x="1374" y="565"/>
                  <a:pt x="1357" y="555"/>
                  <a:pt x="1340" y="544"/>
                </a:cubicBezTo>
                <a:cubicBezTo>
                  <a:pt x="1319" y="514"/>
                  <a:pt x="1297" y="485"/>
                  <a:pt x="1276" y="455"/>
                </a:cubicBezTo>
                <a:cubicBezTo>
                  <a:pt x="1272" y="449"/>
                  <a:pt x="1264" y="439"/>
                  <a:pt x="1270" y="435"/>
                </a:cubicBezTo>
                <a:cubicBezTo>
                  <a:pt x="1277" y="430"/>
                  <a:pt x="1287" y="438"/>
                  <a:pt x="1295" y="442"/>
                </a:cubicBezTo>
                <a:cubicBezTo>
                  <a:pt x="1334" y="462"/>
                  <a:pt x="1372" y="484"/>
                  <a:pt x="1410" y="506"/>
                </a:cubicBezTo>
                <a:cubicBezTo>
                  <a:pt x="1519" y="569"/>
                  <a:pt x="1592" y="637"/>
                  <a:pt x="1654" y="749"/>
                </a:cubicBezTo>
                <a:cubicBezTo>
                  <a:pt x="1660" y="794"/>
                  <a:pt x="1673" y="821"/>
                  <a:pt x="1622" y="858"/>
                </a:cubicBezTo>
                <a:cubicBezTo>
                  <a:pt x="1606" y="869"/>
                  <a:pt x="1583" y="862"/>
                  <a:pt x="1564" y="864"/>
                </a:cubicBezTo>
                <a:cubicBezTo>
                  <a:pt x="1423" y="848"/>
                  <a:pt x="1394" y="839"/>
                  <a:pt x="1276" y="800"/>
                </a:cubicBezTo>
                <a:cubicBezTo>
                  <a:pt x="1221" y="761"/>
                  <a:pt x="1237" y="766"/>
                  <a:pt x="1206" y="717"/>
                </a:cubicBezTo>
                <a:cubicBezTo>
                  <a:pt x="1214" y="700"/>
                  <a:pt x="1212" y="668"/>
                  <a:pt x="1231" y="666"/>
                </a:cubicBezTo>
                <a:cubicBezTo>
                  <a:pt x="1370" y="650"/>
                  <a:pt x="1398" y="672"/>
                  <a:pt x="1487" y="717"/>
                </a:cubicBezTo>
                <a:cubicBezTo>
                  <a:pt x="1511" y="745"/>
                  <a:pt x="1534" y="772"/>
                  <a:pt x="1558" y="800"/>
                </a:cubicBezTo>
                <a:cubicBezTo>
                  <a:pt x="1612" y="864"/>
                  <a:pt x="1483" y="906"/>
                  <a:pt x="1455" y="915"/>
                </a:cubicBezTo>
                <a:cubicBezTo>
                  <a:pt x="1333" y="896"/>
                  <a:pt x="1284" y="897"/>
                  <a:pt x="1193" y="832"/>
                </a:cubicBezTo>
                <a:cubicBezTo>
                  <a:pt x="1181" y="803"/>
                  <a:pt x="1164" y="785"/>
                  <a:pt x="1174" y="755"/>
                </a:cubicBezTo>
                <a:cubicBezTo>
                  <a:pt x="1259" y="783"/>
                  <a:pt x="1303" y="803"/>
                  <a:pt x="1366" y="864"/>
                </a:cubicBezTo>
                <a:cubicBezTo>
                  <a:pt x="1377" y="901"/>
                  <a:pt x="1400" y="922"/>
                  <a:pt x="1378" y="954"/>
                </a:cubicBezTo>
                <a:cubicBezTo>
                  <a:pt x="1343" y="919"/>
                  <a:pt x="1363" y="903"/>
                  <a:pt x="1404" y="890"/>
                </a:cubicBezTo>
                <a:cubicBezTo>
                  <a:pt x="1477" y="901"/>
                  <a:pt x="1492" y="894"/>
                  <a:pt x="1551" y="928"/>
                </a:cubicBezTo>
                <a:cubicBezTo>
                  <a:pt x="1582" y="946"/>
                  <a:pt x="1641" y="986"/>
                  <a:pt x="1641" y="986"/>
                </a:cubicBezTo>
                <a:cubicBezTo>
                  <a:pt x="1648" y="1000"/>
                  <a:pt x="1680" y="1047"/>
                  <a:pt x="1615" y="999"/>
                </a:cubicBezTo>
                <a:cubicBezTo>
                  <a:pt x="1583" y="975"/>
                  <a:pt x="1541" y="923"/>
                  <a:pt x="1513" y="890"/>
                </a:cubicBezTo>
                <a:cubicBezTo>
                  <a:pt x="1496" y="783"/>
                  <a:pt x="1589" y="682"/>
                  <a:pt x="1692" y="666"/>
                </a:cubicBezTo>
                <a:cubicBezTo>
                  <a:pt x="1797" y="685"/>
                  <a:pt x="1836" y="665"/>
                  <a:pt x="1878" y="749"/>
                </a:cubicBezTo>
                <a:cubicBezTo>
                  <a:pt x="1885" y="796"/>
                  <a:pt x="1899" y="800"/>
                  <a:pt x="1871" y="839"/>
                </a:cubicBezTo>
                <a:cubicBezTo>
                  <a:pt x="1807" y="832"/>
                  <a:pt x="1741" y="836"/>
                  <a:pt x="1679" y="819"/>
                </a:cubicBezTo>
                <a:cubicBezTo>
                  <a:pt x="1639" y="808"/>
                  <a:pt x="1528" y="734"/>
                  <a:pt x="1481" y="704"/>
                </a:cubicBezTo>
                <a:cubicBezTo>
                  <a:pt x="1412" y="581"/>
                  <a:pt x="1380" y="362"/>
                  <a:pt x="1545" y="314"/>
                </a:cubicBezTo>
                <a:cubicBezTo>
                  <a:pt x="1585" y="316"/>
                  <a:pt x="1627" y="309"/>
                  <a:pt x="1666" y="320"/>
                </a:cubicBezTo>
                <a:cubicBezTo>
                  <a:pt x="1682" y="324"/>
                  <a:pt x="1781" y="420"/>
                  <a:pt x="1801" y="435"/>
                </a:cubicBezTo>
                <a:cubicBezTo>
                  <a:pt x="1828" y="497"/>
                  <a:pt x="1859" y="551"/>
                  <a:pt x="1826" y="621"/>
                </a:cubicBezTo>
                <a:cubicBezTo>
                  <a:pt x="1815" y="645"/>
                  <a:pt x="1763" y="654"/>
                  <a:pt x="1743" y="659"/>
                </a:cubicBezTo>
                <a:cubicBezTo>
                  <a:pt x="1703" y="657"/>
                  <a:pt x="1662" y="661"/>
                  <a:pt x="1622" y="653"/>
                </a:cubicBezTo>
                <a:cubicBezTo>
                  <a:pt x="1550" y="639"/>
                  <a:pt x="1529" y="530"/>
                  <a:pt x="1519" y="474"/>
                </a:cubicBezTo>
                <a:cubicBezTo>
                  <a:pt x="1525" y="459"/>
                  <a:pt x="1524" y="437"/>
                  <a:pt x="1538" y="429"/>
                </a:cubicBezTo>
                <a:cubicBezTo>
                  <a:pt x="1550" y="422"/>
                  <a:pt x="1648" y="408"/>
                  <a:pt x="1679" y="403"/>
                </a:cubicBezTo>
                <a:cubicBezTo>
                  <a:pt x="1772" y="409"/>
                  <a:pt x="1820" y="408"/>
                  <a:pt x="1890" y="467"/>
                </a:cubicBezTo>
                <a:cubicBezTo>
                  <a:pt x="1905" y="512"/>
                  <a:pt x="1910" y="555"/>
                  <a:pt x="1916" y="602"/>
                </a:cubicBezTo>
                <a:cubicBezTo>
                  <a:pt x="1907" y="768"/>
                  <a:pt x="1923" y="726"/>
                  <a:pt x="1743" y="711"/>
                </a:cubicBezTo>
                <a:cubicBezTo>
                  <a:pt x="1728" y="698"/>
                  <a:pt x="1717" y="677"/>
                  <a:pt x="1698" y="672"/>
                </a:cubicBezTo>
                <a:cubicBezTo>
                  <a:pt x="1686" y="669"/>
                  <a:pt x="1713" y="693"/>
                  <a:pt x="1718" y="704"/>
                </a:cubicBezTo>
                <a:cubicBezTo>
                  <a:pt x="1728" y="725"/>
                  <a:pt x="1736" y="746"/>
                  <a:pt x="1743" y="768"/>
                </a:cubicBezTo>
                <a:cubicBezTo>
                  <a:pt x="1765" y="836"/>
                  <a:pt x="1764" y="854"/>
                  <a:pt x="1775" y="928"/>
                </a:cubicBezTo>
                <a:cubicBezTo>
                  <a:pt x="1756" y="1124"/>
                  <a:pt x="1815" y="1115"/>
                  <a:pt x="1711" y="1139"/>
                </a:cubicBezTo>
                <a:cubicBezTo>
                  <a:pt x="1673" y="1137"/>
                  <a:pt x="1633" y="1142"/>
                  <a:pt x="1596" y="1133"/>
                </a:cubicBezTo>
                <a:cubicBezTo>
                  <a:pt x="1547" y="1121"/>
                  <a:pt x="1607" y="1052"/>
                  <a:pt x="1609" y="1050"/>
                </a:cubicBezTo>
                <a:cubicBezTo>
                  <a:pt x="1647" y="1019"/>
                  <a:pt x="1713" y="1021"/>
                  <a:pt x="1756" y="1018"/>
                </a:cubicBezTo>
                <a:cubicBezTo>
                  <a:pt x="1858" y="1026"/>
                  <a:pt x="1981" y="990"/>
                  <a:pt x="2044" y="1082"/>
                </a:cubicBezTo>
                <a:cubicBezTo>
                  <a:pt x="2030" y="1126"/>
                  <a:pt x="1991" y="1142"/>
                  <a:pt x="1954" y="1165"/>
                </a:cubicBezTo>
                <a:cubicBezTo>
                  <a:pt x="1953" y="1166"/>
                  <a:pt x="1924" y="1214"/>
                  <a:pt x="1910" y="1203"/>
                </a:cubicBezTo>
                <a:cubicBezTo>
                  <a:pt x="1900" y="1195"/>
                  <a:pt x="1905" y="1178"/>
                  <a:pt x="1903" y="1165"/>
                </a:cubicBezTo>
                <a:cubicBezTo>
                  <a:pt x="1912" y="1074"/>
                  <a:pt x="1907" y="1084"/>
                  <a:pt x="1986" y="1050"/>
                </a:cubicBezTo>
                <a:cubicBezTo>
                  <a:pt x="2118" y="1063"/>
                  <a:pt x="2175" y="1072"/>
                  <a:pt x="2268" y="1165"/>
                </a:cubicBezTo>
                <a:cubicBezTo>
                  <a:pt x="2292" y="1224"/>
                  <a:pt x="2309" y="1224"/>
                  <a:pt x="2236" y="1197"/>
                </a:cubicBezTo>
                <a:cubicBezTo>
                  <a:pt x="2155" y="1126"/>
                  <a:pt x="2126" y="1066"/>
                  <a:pt x="2070" y="967"/>
                </a:cubicBezTo>
                <a:cubicBezTo>
                  <a:pt x="2021" y="880"/>
                  <a:pt x="1964" y="803"/>
                  <a:pt x="1922" y="711"/>
                </a:cubicBezTo>
                <a:cubicBezTo>
                  <a:pt x="1931" y="672"/>
                  <a:pt x="1924" y="627"/>
                  <a:pt x="1948" y="595"/>
                </a:cubicBezTo>
                <a:cubicBezTo>
                  <a:pt x="1961" y="578"/>
                  <a:pt x="1991" y="591"/>
                  <a:pt x="2012" y="589"/>
                </a:cubicBezTo>
                <a:cubicBezTo>
                  <a:pt x="2029" y="587"/>
                  <a:pt x="2046" y="585"/>
                  <a:pt x="2063" y="583"/>
                </a:cubicBezTo>
                <a:cubicBezTo>
                  <a:pt x="2136" y="594"/>
                  <a:pt x="2210" y="598"/>
                  <a:pt x="2281" y="615"/>
                </a:cubicBezTo>
                <a:cubicBezTo>
                  <a:pt x="2351" y="632"/>
                  <a:pt x="2400" y="744"/>
                  <a:pt x="2428" y="800"/>
                </a:cubicBezTo>
                <a:cubicBezTo>
                  <a:pt x="2442" y="875"/>
                  <a:pt x="2374" y="841"/>
                  <a:pt x="2319" y="832"/>
                </a:cubicBezTo>
                <a:cubicBezTo>
                  <a:pt x="2253" y="793"/>
                  <a:pt x="2198" y="749"/>
                  <a:pt x="2140" y="698"/>
                </a:cubicBezTo>
                <a:cubicBezTo>
                  <a:pt x="2090" y="591"/>
                  <a:pt x="2066" y="495"/>
                  <a:pt x="2044" y="378"/>
                </a:cubicBezTo>
                <a:cubicBezTo>
                  <a:pt x="2048" y="346"/>
                  <a:pt x="2030" y="299"/>
                  <a:pt x="2057" y="282"/>
                </a:cubicBezTo>
                <a:cubicBezTo>
                  <a:pt x="2099" y="255"/>
                  <a:pt x="2259" y="305"/>
                  <a:pt x="2313" y="327"/>
                </a:cubicBezTo>
                <a:cubicBezTo>
                  <a:pt x="2337" y="372"/>
                  <a:pt x="2345" y="373"/>
                  <a:pt x="2287" y="442"/>
                </a:cubicBezTo>
                <a:cubicBezTo>
                  <a:pt x="2257" y="477"/>
                  <a:pt x="2163" y="493"/>
                  <a:pt x="2127" y="506"/>
                </a:cubicBezTo>
                <a:cubicBezTo>
                  <a:pt x="1938" y="572"/>
                  <a:pt x="2155" y="510"/>
                  <a:pt x="1980" y="557"/>
                </a:cubicBezTo>
                <a:cubicBezTo>
                  <a:pt x="1804" y="535"/>
                  <a:pt x="1839" y="573"/>
                  <a:pt x="1801" y="461"/>
                </a:cubicBezTo>
                <a:cubicBezTo>
                  <a:pt x="1858" y="332"/>
                  <a:pt x="1827" y="362"/>
                  <a:pt x="1942" y="333"/>
                </a:cubicBezTo>
                <a:cubicBezTo>
                  <a:pt x="2023" y="339"/>
                  <a:pt x="2105" y="338"/>
                  <a:pt x="2185" y="352"/>
                </a:cubicBezTo>
                <a:cubicBezTo>
                  <a:pt x="2213" y="357"/>
                  <a:pt x="2238" y="375"/>
                  <a:pt x="2262" y="391"/>
                </a:cubicBezTo>
                <a:cubicBezTo>
                  <a:pt x="2347" y="450"/>
                  <a:pt x="2481" y="544"/>
                  <a:pt x="2543" y="627"/>
                </a:cubicBezTo>
                <a:cubicBezTo>
                  <a:pt x="2577" y="744"/>
                  <a:pt x="2571" y="874"/>
                  <a:pt x="2524" y="986"/>
                </a:cubicBezTo>
                <a:cubicBezTo>
                  <a:pt x="2779" y="1029"/>
                  <a:pt x="2922" y="1188"/>
                  <a:pt x="3004" y="1427"/>
                </a:cubicBezTo>
                <a:cubicBezTo>
                  <a:pt x="3002" y="1459"/>
                  <a:pt x="3010" y="1493"/>
                  <a:pt x="2998" y="1523"/>
                </a:cubicBezTo>
                <a:cubicBezTo>
                  <a:pt x="2993" y="1537"/>
                  <a:pt x="2973" y="1539"/>
                  <a:pt x="2959" y="1543"/>
                </a:cubicBezTo>
                <a:cubicBezTo>
                  <a:pt x="2917" y="1554"/>
                  <a:pt x="2874" y="1560"/>
                  <a:pt x="2831" y="1568"/>
                </a:cubicBezTo>
                <a:cubicBezTo>
                  <a:pt x="2797" y="1564"/>
                  <a:pt x="2762" y="1563"/>
                  <a:pt x="2729" y="1555"/>
                </a:cubicBezTo>
                <a:cubicBezTo>
                  <a:pt x="2642" y="1534"/>
                  <a:pt x="2591" y="1391"/>
                  <a:pt x="2569" y="1319"/>
                </a:cubicBezTo>
                <a:cubicBezTo>
                  <a:pt x="2563" y="1260"/>
                  <a:pt x="2549" y="1221"/>
                  <a:pt x="2594" y="1165"/>
                </a:cubicBezTo>
                <a:cubicBezTo>
                  <a:pt x="2603" y="1153"/>
                  <a:pt x="2624" y="1161"/>
                  <a:pt x="2639" y="1159"/>
                </a:cubicBezTo>
                <a:cubicBezTo>
                  <a:pt x="2669" y="1161"/>
                  <a:pt x="2701" y="1154"/>
                  <a:pt x="2729" y="1165"/>
                </a:cubicBezTo>
                <a:cubicBezTo>
                  <a:pt x="2749" y="1172"/>
                  <a:pt x="2774" y="1210"/>
                  <a:pt x="2774" y="1210"/>
                </a:cubicBezTo>
                <a:cubicBezTo>
                  <a:pt x="2682" y="1241"/>
                  <a:pt x="2527" y="1188"/>
                  <a:pt x="2460" y="1114"/>
                </a:cubicBezTo>
                <a:cubicBezTo>
                  <a:pt x="2433" y="1084"/>
                  <a:pt x="2429" y="1061"/>
                  <a:pt x="2415" y="1024"/>
                </a:cubicBezTo>
                <a:cubicBezTo>
                  <a:pt x="2406" y="959"/>
                  <a:pt x="2403" y="941"/>
                  <a:pt x="2415" y="871"/>
                </a:cubicBezTo>
                <a:cubicBezTo>
                  <a:pt x="2505" y="916"/>
                  <a:pt x="2519" y="924"/>
                  <a:pt x="2550" y="1018"/>
                </a:cubicBezTo>
                <a:cubicBezTo>
                  <a:pt x="2522" y="1071"/>
                  <a:pt x="2512" y="1071"/>
                  <a:pt x="2454" y="1082"/>
                </a:cubicBezTo>
                <a:cubicBezTo>
                  <a:pt x="2411" y="1080"/>
                  <a:pt x="2368" y="1084"/>
                  <a:pt x="2326" y="1075"/>
                </a:cubicBezTo>
                <a:cubicBezTo>
                  <a:pt x="2274" y="1064"/>
                  <a:pt x="2236" y="1008"/>
                  <a:pt x="2210" y="967"/>
                </a:cubicBezTo>
                <a:cubicBezTo>
                  <a:pt x="2198" y="915"/>
                  <a:pt x="2182" y="861"/>
                  <a:pt x="2223" y="807"/>
                </a:cubicBezTo>
                <a:cubicBezTo>
                  <a:pt x="2250" y="771"/>
                  <a:pt x="2351" y="754"/>
                  <a:pt x="2402" y="743"/>
                </a:cubicBezTo>
                <a:cubicBezTo>
                  <a:pt x="2559" y="761"/>
                  <a:pt x="2658" y="749"/>
                  <a:pt x="2742" y="883"/>
                </a:cubicBezTo>
                <a:cubicBezTo>
                  <a:pt x="2717" y="788"/>
                  <a:pt x="2683" y="692"/>
                  <a:pt x="2665" y="595"/>
                </a:cubicBezTo>
                <a:cubicBezTo>
                  <a:pt x="2650" y="515"/>
                  <a:pt x="2648" y="433"/>
                  <a:pt x="2639" y="352"/>
                </a:cubicBezTo>
                <a:cubicBezTo>
                  <a:pt x="2658" y="247"/>
                  <a:pt x="2764" y="299"/>
                  <a:pt x="2831" y="339"/>
                </a:cubicBezTo>
                <a:cubicBezTo>
                  <a:pt x="2845" y="378"/>
                  <a:pt x="2850" y="373"/>
                  <a:pt x="2767" y="352"/>
                </a:cubicBezTo>
                <a:cubicBezTo>
                  <a:pt x="2709" y="338"/>
                  <a:pt x="2650" y="305"/>
                  <a:pt x="2594" y="282"/>
                </a:cubicBezTo>
                <a:cubicBezTo>
                  <a:pt x="2586" y="273"/>
                  <a:pt x="2578" y="264"/>
                  <a:pt x="2569" y="256"/>
                </a:cubicBezTo>
                <a:cubicBezTo>
                  <a:pt x="2563" y="251"/>
                  <a:pt x="2550" y="251"/>
                  <a:pt x="2550" y="243"/>
                </a:cubicBezTo>
                <a:cubicBezTo>
                  <a:pt x="2550" y="236"/>
                  <a:pt x="2563" y="239"/>
                  <a:pt x="2569" y="237"/>
                </a:cubicBezTo>
                <a:cubicBezTo>
                  <a:pt x="2580" y="233"/>
                  <a:pt x="2590" y="228"/>
                  <a:pt x="2601" y="224"/>
                </a:cubicBezTo>
                <a:cubicBezTo>
                  <a:pt x="2762" y="258"/>
                  <a:pt x="2816" y="219"/>
                  <a:pt x="2850" y="346"/>
                </a:cubicBezTo>
                <a:cubicBezTo>
                  <a:pt x="2863" y="451"/>
                  <a:pt x="2849" y="592"/>
                  <a:pt x="2729" y="621"/>
                </a:cubicBezTo>
                <a:cubicBezTo>
                  <a:pt x="2714" y="619"/>
                  <a:pt x="2697" y="622"/>
                  <a:pt x="2684" y="615"/>
                </a:cubicBezTo>
                <a:cubicBezTo>
                  <a:pt x="2671" y="608"/>
                  <a:pt x="2649" y="523"/>
                  <a:pt x="2646" y="512"/>
                </a:cubicBezTo>
                <a:cubicBezTo>
                  <a:pt x="2658" y="375"/>
                  <a:pt x="2625" y="348"/>
                  <a:pt x="2754" y="333"/>
                </a:cubicBezTo>
                <a:cubicBezTo>
                  <a:pt x="2910" y="360"/>
                  <a:pt x="3111" y="379"/>
                  <a:pt x="3190" y="538"/>
                </a:cubicBezTo>
                <a:cubicBezTo>
                  <a:pt x="3188" y="576"/>
                  <a:pt x="3194" y="616"/>
                  <a:pt x="3183" y="653"/>
                </a:cubicBezTo>
                <a:cubicBezTo>
                  <a:pt x="3161" y="722"/>
                  <a:pt x="3068" y="792"/>
                  <a:pt x="3017" y="839"/>
                </a:cubicBezTo>
                <a:cubicBezTo>
                  <a:pt x="2972" y="929"/>
                  <a:pt x="2993" y="961"/>
                  <a:pt x="2998" y="1088"/>
                </a:cubicBezTo>
                <a:cubicBezTo>
                  <a:pt x="2996" y="1122"/>
                  <a:pt x="3000" y="1158"/>
                  <a:pt x="2991" y="1191"/>
                </a:cubicBezTo>
                <a:cubicBezTo>
                  <a:pt x="2989" y="1198"/>
                  <a:pt x="2971" y="1191"/>
                  <a:pt x="2972" y="1184"/>
                </a:cubicBezTo>
                <a:cubicBezTo>
                  <a:pt x="2974" y="1169"/>
                  <a:pt x="2986" y="1155"/>
                  <a:pt x="2998" y="1146"/>
                </a:cubicBezTo>
                <a:cubicBezTo>
                  <a:pt x="3014" y="1134"/>
                  <a:pt x="3069" y="1129"/>
                  <a:pt x="3087" y="1127"/>
                </a:cubicBezTo>
                <a:cubicBezTo>
                  <a:pt x="3197" y="1134"/>
                  <a:pt x="3182" y="1116"/>
                  <a:pt x="3209" y="1210"/>
                </a:cubicBezTo>
                <a:cubicBezTo>
                  <a:pt x="3213" y="1244"/>
                  <a:pt x="3230" y="1304"/>
                  <a:pt x="3183" y="1325"/>
                </a:cubicBezTo>
                <a:cubicBezTo>
                  <a:pt x="3162" y="1335"/>
                  <a:pt x="3140" y="1308"/>
                  <a:pt x="3119" y="1299"/>
                </a:cubicBezTo>
                <a:cubicBezTo>
                  <a:pt x="3036" y="1192"/>
                  <a:pt x="3120" y="1129"/>
                  <a:pt x="3215" y="1082"/>
                </a:cubicBezTo>
                <a:cubicBezTo>
                  <a:pt x="3254" y="1093"/>
                  <a:pt x="3309" y="1095"/>
                  <a:pt x="3337" y="1133"/>
                </a:cubicBezTo>
                <a:cubicBezTo>
                  <a:pt x="3344" y="1143"/>
                  <a:pt x="3369" y="1198"/>
                  <a:pt x="3375" y="1216"/>
                </a:cubicBezTo>
                <a:cubicBezTo>
                  <a:pt x="3378" y="1224"/>
                  <a:pt x="3375" y="1236"/>
                  <a:pt x="3382" y="1242"/>
                </a:cubicBezTo>
                <a:cubicBezTo>
                  <a:pt x="3390" y="1249"/>
                  <a:pt x="3403" y="1246"/>
                  <a:pt x="3414" y="1248"/>
                </a:cubicBezTo>
                <a:cubicBezTo>
                  <a:pt x="3426" y="1302"/>
                  <a:pt x="3437" y="1292"/>
                  <a:pt x="3420" y="1351"/>
                </a:cubicBezTo>
                <a:cubicBezTo>
                  <a:pt x="3399" y="1337"/>
                  <a:pt x="3383" y="1320"/>
                  <a:pt x="3362" y="1306"/>
                </a:cubicBezTo>
                <a:cubicBezTo>
                  <a:pt x="3360" y="1300"/>
                  <a:pt x="3350" y="1289"/>
                  <a:pt x="3356" y="1287"/>
                </a:cubicBezTo>
                <a:cubicBezTo>
                  <a:pt x="3368" y="1282"/>
                  <a:pt x="3390" y="1281"/>
                  <a:pt x="3394" y="1293"/>
                </a:cubicBezTo>
                <a:cubicBezTo>
                  <a:pt x="3397" y="1304"/>
                  <a:pt x="3373" y="1302"/>
                  <a:pt x="3362" y="1306"/>
                </a:cubicBezTo>
                <a:cubicBezTo>
                  <a:pt x="3330" y="1297"/>
                  <a:pt x="3296" y="1294"/>
                  <a:pt x="3266" y="1280"/>
                </a:cubicBezTo>
                <a:cubicBezTo>
                  <a:pt x="3233" y="1265"/>
                  <a:pt x="3215" y="1208"/>
                  <a:pt x="3202" y="1184"/>
                </a:cubicBezTo>
                <a:cubicBezTo>
                  <a:pt x="3144" y="1078"/>
                  <a:pt x="3078" y="988"/>
                  <a:pt x="3030" y="877"/>
                </a:cubicBezTo>
                <a:cubicBezTo>
                  <a:pt x="3002" y="744"/>
                  <a:pt x="2990" y="601"/>
                  <a:pt x="3126" y="531"/>
                </a:cubicBezTo>
                <a:cubicBezTo>
                  <a:pt x="3228" y="547"/>
                  <a:pt x="3333" y="582"/>
                  <a:pt x="3401" y="666"/>
                </a:cubicBezTo>
                <a:cubicBezTo>
                  <a:pt x="3414" y="682"/>
                  <a:pt x="3422" y="700"/>
                  <a:pt x="3433" y="717"/>
                </a:cubicBezTo>
                <a:cubicBezTo>
                  <a:pt x="3445" y="734"/>
                  <a:pt x="3471" y="768"/>
                  <a:pt x="3471" y="768"/>
                </a:cubicBezTo>
                <a:cubicBezTo>
                  <a:pt x="3429" y="810"/>
                  <a:pt x="3395" y="727"/>
                  <a:pt x="3362" y="698"/>
                </a:cubicBezTo>
                <a:cubicBezTo>
                  <a:pt x="3279" y="624"/>
                  <a:pt x="3208" y="569"/>
                  <a:pt x="3138" y="480"/>
                </a:cubicBezTo>
                <a:cubicBezTo>
                  <a:pt x="3134" y="465"/>
                  <a:pt x="3088" y="361"/>
                  <a:pt x="3132" y="346"/>
                </a:cubicBezTo>
                <a:cubicBezTo>
                  <a:pt x="3156" y="338"/>
                  <a:pt x="3183" y="341"/>
                  <a:pt x="3209" y="339"/>
                </a:cubicBezTo>
                <a:cubicBezTo>
                  <a:pt x="3260" y="343"/>
                  <a:pt x="3311" y="346"/>
                  <a:pt x="3362" y="352"/>
                </a:cubicBezTo>
                <a:cubicBezTo>
                  <a:pt x="3371" y="353"/>
                  <a:pt x="3380" y="355"/>
                  <a:pt x="3388" y="359"/>
                </a:cubicBezTo>
                <a:cubicBezTo>
                  <a:pt x="3396" y="363"/>
                  <a:pt x="3398" y="378"/>
                  <a:pt x="3407" y="378"/>
                </a:cubicBezTo>
                <a:cubicBezTo>
                  <a:pt x="3415" y="378"/>
                  <a:pt x="3398" y="366"/>
                  <a:pt x="3394" y="359"/>
                </a:cubicBezTo>
                <a:cubicBezTo>
                  <a:pt x="3356" y="291"/>
                  <a:pt x="3391" y="344"/>
                  <a:pt x="3362" y="301"/>
                </a:cubicBezTo>
                <a:cubicBezTo>
                  <a:pt x="3361" y="296"/>
                  <a:pt x="3349" y="245"/>
                  <a:pt x="3350" y="243"/>
                </a:cubicBezTo>
                <a:cubicBezTo>
                  <a:pt x="3356" y="234"/>
                  <a:pt x="3371" y="239"/>
                  <a:pt x="3382" y="237"/>
                </a:cubicBezTo>
                <a:cubicBezTo>
                  <a:pt x="3388" y="233"/>
                  <a:pt x="3394" y="227"/>
                  <a:pt x="3401" y="224"/>
                </a:cubicBezTo>
                <a:cubicBezTo>
                  <a:pt x="3409" y="221"/>
                  <a:pt x="3419" y="222"/>
                  <a:pt x="3426" y="218"/>
                </a:cubicBezTo>
                <a:cubicBezTo>
                  <a:pt x="3434" y="214"/>
                  <a:pt x="3438" y="204"/>
                  <a:pt x="3446" y="199"/>
                </a:cubicBezTo>
                <a:cubicBezTo>
                  <a:pt x="3459" y="190"/>
                  <a:pt x="3476" y="186"/>
                  <a:pt x="3490" y="179"/>
                </a:cubicBezTo>
                <a:cubicBezTo>
                  <a:pt x="3503" y="181"/>
                  <a:pt x="3518" y="179"/>
                  <a:pt x="3529" y="186"/>
                </a:cubicBezTo>
                <a:cubicBezTo>
                  <a:pt x="3535" y="189"/>
                  <a:pt x="3532" y="199"/>
                  <a:pt x="3535" y="205"/>
                </a:cubicBezTo>
                <a:cubicBezTo>
                  <a:pt x="3546" y="227"/>
                  <a:pt x="3553" y="228"/>
                  <a:pt x="3574" y="243"/>
                </a:cubicBezTo>
                <a:cubicBezTo>
                  <a:pt x="3566" y="273"/>
                  <a:pt x="3552" y="295"/>
                  <a:pt x="3535" y="320"/>
                </a:cubicBezTo>
                <a:cubicBezTo>
                  <a:pt x="3523" y="357"/>
                  <a:pt x="3508" y="391"/>
                  <a:pt x="3497" y="429"/>
                </a:cubicBezTo>
                <a:cubicBezTo>
                  <a:pt x="3508" y="559"/>
                  <a:pt x="3523" y="654"/>
                  <a:pt x="3542" y="775"/>
                </a:cubicBezTo>
                <a:cubicBezTo>
                  <a:pt x="3530" y="817"/>
                  <a:pt x="3542" y="798"/>
                  <a:pt x="3522" y="781"/>
                </a:cubicBezTo>
                <a:cubicBezTo>
                  <a:pt x="3513" y="773"/>
                  <a:pt x="3501" y="768"/>
                  <a:pt x="3490" y="762"/>
                </a:cubicBezTo>
                <a:cubicBezTo>
                  <a:pt x="3490" y="762"/>
                  <a:pt x="3463" y="706"/>
                  <a:pt x="3452" y="755"/>
                </a:cubicBezTo>
                <a:cubicBezTo>
                  <a:pt x="3441" y="805"/>
                  <a:pt x="3469" y="886"/>
                  <a:pt x="3484" y="935"/>
                </a:cubicBezTo>
                <a:cubicBezTo>
                  <a:pt x="3415" y="1015"/>
                  <a:pt x="3477" y="952"/>
                  <a:pt x="3414" y="999"/>
                </a:cubicBezTo>
                <a:cubicBezTo>
                  <a:pt x="3407" y="1005"/>
                  <a:pt x="3385" y="1018"/>
                  <a:pt x="3394" y="1018"/>
                </a:cubicBezTo>
                <a:cubicBezTo>
                  <a:pt x="3405" y="1018"/>
                  <a:pt x="3411" y="1004"/>
                  <a:pt x="3420" y="999"/>
                </a:cubicBezTo>
                <a:cubicBezTo>
                  <a:pt x="3430" y="993"/>
                  <a:pt x="3441" y="990"/>
                  <a:pt x="3452" y="986"/>
                </a:cubicBezTo>
                <a:cubicBezTo>
                  <a:pt x="3469" y="990"/>
                  <a:pt x="3503" y="981"/>
                  <a:pt x="3503" y="999"/>
                </a:cubicBezTo>
                <a:cubicBezTo>
                  <a:pt x="3503" y="1017"/>
                  <a:pt x="3470" y="1017"/>
                  <a:pt x="3452" y="1018"/>
                </a:cubicBezTo>
                <a:cubicBezTo>
                  <a:pt x="3418" y="1019"/>
                  <a:pt x="3384" y="1009"/>
                  <a:pt x="3350" y="1005"/>
                </a:cubicBezTo>
                <a:cubicBezTo>
                  <a:pt x="3311" y="989"/>
                  <a:pt x="3280" y="973"/>
                  <a:pt x="3247" y="947"/>
                </a:cubicBezTo>
                <a:cubicBezTo>
                  <a:pt x="3254" y="890"/>
                  <a:pt x="3262" y="818"/>
                  <a:pt x="3305" y="775"/>
                </a:cubicBezTo>
                <a:cubicBezTo>
                  <a:pt x="3360" y="777"/>
                  <a:pt x="3418" y="765"/>
                  <a:pt x="3471" y="781"/>
                </a:cubicBezTo>
                <a:cubicBezTo>
                  <a:pt x="3486" y="785"/>
                  <a:pt x="3479" y="811"/>
                  <a:pt x="3478" y="826"/>
                </a:cubicBezTo>
                <a:cubicBezTo>
                  <a:pt x="3461" y="1024"/>
                  <a:pt x="3507" y="994"/>
                  <a:pt x="3388" y="1018"/>
                </a:cubicBezTo>
                <a:cubicBezTo>
                  <a:pt x="3347" y="1009"/>
                  <a:pt x="3305" y="1007"/>
                  <a:pt x="3266" y="992"/>
                </a:cubicBezTo>
                <a:cubicBezTo>
                  <a:pt x="3214" y="971"/>
                  <a:pt x="3188" y="877"/>
                  <a:pt x="3170" y="832"/>
                </a:cubicBezTo>
                <a:cubicBezTo>
                  <a:pt x="3147" y="686"/>
                  <a:pt x="3199" y="525"/>
                  <a:pt x="3330" y="448"/>
                </a:cubicBezTo>
                <a:cubicBezTo>
                  <a:pt x="3412" y="452"/>
                  <a:pt x="3474" y="422"/>
                  <a:pt x="3516" y="493"/>
                </a:cubicBezTo>
                <a:cubicBezTo>
                  <a:pt x="3533" y="521"/>
                  <a:pt x="3541" y="553"/>
                  <a:pt x="3554" y="583"/>
                </a:cubicBezTo>
                <a:cubicBezTo>
                  <a:pt x="3560" y="598"/>
                  <a:pt x="3574" y="627"/>
                  <a:pt x="3574" y="627"/>
                </a:cubicBezTo>
                <a:cubicBezTo>
                  <a:pt x="3590" y="710"/>
                  <a:pt x="3630" y="682"/>
                  <a:pt x="3727" y="691"/>
                </a:cubicBezTo>
                <a:cubicBezTo>
                  <a:pt x="3766" y="703"/>
                  <a:pt x="3814" y="707"/>
                  <a:pt x="3830" y="749"/>
                </a:cubicBezTo>
                <a:cubicBezTo>
                  <a:pt x="3814" y="810"/>
                  <a:pt x="3766" y="776"/>
                  <a:pt x="3702" y="768"/>
                </a:cubicBezTo>
                <a:cubicBezTo>
                  <a:pt x="3662" y="718"/>
                  <a:pt x="3657" y="718"/>
                  <a:pt x="3644" y="666"/>
                </a:cubicBezTo>
                <a:cubicBezTo>
                  <a:pt x="3648" y="642"/>
                  <a:pt x="3646" y="616"/>
                  <a:pt x="3657" y="595"/>
                </a:cubicBezTo>
                <a:cubicBezTo>
                  <a:pt x="3662" y="585"/>
                  <a:pt x="3678" y="585"/>
                  <a:pt x="3689" y="583"/>
                </a:cubicBezTo>
                <a:cubicBezTo>
                  <a:pt x="3747" y="570"/>
                  <a:pt x="3809" y="563"/>
                  <a:pt x="3868" y="557"/>
                </a:cubicBezTo>
                <a:cubicBezTo>
                  <a:pt x="3881" y="553"/>
                  <a:pt x="3912" y="556"/>
                  <a:pt x="3906" y="544"/>
                </a:cubicBezTo>
                <a:cubicBezTo>
                  <a:pt x="3891" y="516"/>
                  <a:pt x="3855" y="506"/>
                  <a:pt x="3830" y="487"/>
                </a:cubicBezTo>
                <a:cubicBezTo>
                  <a:pt x="3808" y="471"/>
                  <a:pt x="3795" y="444"/>
                  <a:pt x="3778" y="423"/>
                </a:cubicBezTo>
                <a:cubicBezTo>
                  <a:pt x="3772" y="406"/>
                  <a:pt x="3766" y="388"/>
                  <a:pt x="3759" y="371"/>
                </a:cubicBezTo>
                <a:cubicBezTo>
                  <a:pt x="3747" y="341"/>
                  <a:pt x="3721" y="282"/>
                  <a:pt x="3721" y="282"/>
                </a:cubicBezTo>
                <a:cubicBezTo>
                  <a:pt x="3717" y="258"/>
                  <a:pt x="3701" y="190"/>
                  <a:pt x="3727" y="173"/>
                </a:cubicBezTo>
                <a:cubicBezTo>
                  <a:pt x="3752" y="156"/>
                  <a:pt x="3787" y="169"/>
                  <a:pt x="3817" y="167"/>
                </a:cubicBezTo>
                <a:cubicBezTo>
                  <a:pt x="3838" y="153"/>
                  <a:pt x="3857" y="149"/>
                  <a:pt x="3881" y="141"/>
                </a:cubicBezTo>
                <a:cubicBezTo>
                  <a:pt x="3945" y="89"/>
                  <a:pt x="3936" y="85"/>
                  <a:pt x="3945" y="0"/>
                </a:cubicBezTo>
                <a:cubicBezTo>
                  <a:pt x="4078" y="29"/>
                  <a:pt x="4207" y="185"/>
                  <a:pt x="4297" y="275"/>
                </a:cubicBezTo>
                <a:cubicBezTo>
                  <a:pt x="4358" y="513"/>
                  <a:pt x="4413" y="695"/>
                  <a:pt x="4431" y="928"/>
                </a:cubicBezTo>
                <a:cubicBezTo>
                  <a:pt x="4397" y="1043"/>
                  <a:pt x="4443" y="958"/>
                  <a:pt x="4335" y="1005"/>
                </a:cubicBezTo>
                <a:cubicBezTo>
                  <a:pt x="4326" y="1009"/>
                  <a:pt x="4325" y="1022"/>
                  <a:pt x="4322" y="1031"/>
                </a:cubicBezTo>
                <a:cubicBezTo>
                  <a:pt x="4293" y="1107"/>
                  <a:pt x="4317" y="1067"/>
                  <a:pt x="4290" y="1107"/>
                </a:cubicBezTo>
                <a:cubicBezTo>
                  <a:pt x="4283" y="1137"/>
                  <a:pt x="4269" y="1146"/>
                  <a:pt x="4252" y="1171"/>
                </a:cubicBezTo>
                <a:cubicBezTo>
                  <a:pt x="4203" y="1099"/>
                  <a:pt x="4229" y="1148"/>
                  <a:pt x="4201" y="1011"/>
                </a:cubicBezTo>
                <a:cubicBezTo>
                  <a:pt x="4197" y="992"/>
                  <a:pt x="4185" y="976"/>
                  <a:pt x="4175" y="960"/>
                </a:cubicBezTo>
                <a:cubicBezTo>
                  <a:pt x="4162" y="940"/>
                  <a:pt x="4116" y="883"/>
                  <a:pt x="4130" y="903"/>
                </a:cubicBezTo>
                <a:cubicBezTo>
                  <a:pt x="4134" y="909"/>
                  <a:pt x="4150" y="925"/>
                  <a:pt x="4143" y="922"/>
                </a:cubicBezTo>
                <a:cubicBezTo>
                  <a:pt x="4138" y="920"/>
                  <a:pt x="4052" y="865"/>
                  <a:pt x="4034" y="845"/>
                </a:cubicBezTo>
                <a:cubicBezTo>
                  <a:pt x="4020" y="829"/>
                  <a:pt x="3996" y="794"/>
                  <a:pt x="3996" y="794"/>
                </a:cubicBezTo>
                <a:cubicBezTo>
                  <a:pt x="4002" y="792"/>
                  <a:pt x="4009" y="784"/>
                  <a:pt x="4015" y="787"/>
                </a:cubicBezTo>
                <a:cubicBezTo>
                  <a:pt x="4025" y="792"/>
                  <a:pt x="4026" y="805"/>
                  <a:pt x="4034" y="813"/>
                </a:cubicBezTo>
                <a:cubicBezTo>
                  <a:pt x="4052" y="831"/>
                  <a:pt x="4083" y="841"/>
                  <a:pt x="4105" y="851"/>
                </a:cubicBezTo>
                <a:cubicBezTo>
                  <a:pt x="4141" y="906"/>
                  <a:pt x="4094" y="840"/>
                  <a:pt x="4137" y="883"/>
                </a:cubicBezTo>
                <a:cubicBezTo>
                  <a:pt x="4150" y="896"/>
                  <a:pt x="4156" y="919"/>
                  <a:pt x="4162" y="935"/>
                </a:cubicBezTo>
                <a:cubicBezTo>
                  <a:pt x="4172" y="1016"/>
                  <a:pt x="4150" y="1088"/>
                  <a:pt x="4214" y="1139"/>
                </a:cubicBezTo>
                <a:cubicBezTo>
                  <a:pt x="4231" y="1152"/>
                  <a:pt x="4253" y="1159"/>
                  <a:pt x="4271" y="1171"/>
                </a:cubicBezTo>
                <a:cubicBezTo>
                  <a:pt x="4300" y="1191"/>
                  <a:pt x="4354" y="1235"/>
                  <a:pt x="4354" y="1235"/>
                </a:cubicBezTo>
                <a:cubicBezTo>
                  <a:pt x="4346" y="1242"/>
                  <a:pt x="4340" y="1253"/>
                  <a:pt x="4329" y="1255"/>
                </a:cubicBezTo>
                <a:cubicBezTo>
                  <a:pt x="4289" y="1262"/>
                  <a:pt x="4243" y="1242"/>
                  <a:pt x="4207" y="1261"/>
                </a:cubicBezTo>
                <a:cubicBezTo>
                  <a:pt x="4194" y="1268"/>
                  <a:pt x="4222" y="1320"/>
                  <a:pt x="4233" y="1331"/>
                </a:cubicBezTo>
                <a:cubicBezTo>
                  <a:pt x="4283" y="1381"/>
                  <a:pt x="4350" y="1404"/>
                  <a:pt x="4399" y="1453"/>
                </a:cubicBezTo>
                <a:cubicBezTo>
                  <a:pt x="4497" y="1211"/>
                  <a:pt x="4288" y="1048"/>
                  <a:pt x="4162" y="890"/>
                </a:cubicBezTo>
                <a:cubicBezTo>
                  <a:pt x="4127" y="846"/>
                  <a:pt x="4087" y="807"/>
                  <a:pt x="4054" y="762"/>
                </a:cubicBezTo>
                <a:cubicBezTo>
                  <a:pt x="4026" y="723"/>
                  <a:pt x="3977" y="640"/>
                  <a:pt x="3977" y="640"/>
                </a:cubicBezTo>
                <a:cubicBezTo>
                  <a:pt x="3963" y="590"/>
                  <a:pt x="3975" y="595"/>
                  <a:pt x="4028" y="589"/>
                </a:cubicBezTo>
                <a:cubicBezTo>
                  <a:pt x="4127" y="611"/>
                  <a:pt x="4223" y="643"/>
                  <a:pt x="4297" y="717"/>
                </a:cubicBezTo>
                <a:cubicBezTo>
                  <a:pt x="4281" y="677"/>
                  <a:pt x="4188" y="576"/>
                  <a:pt x="4150" y="538"/>
                </a:cubicBezTo>
                <a:cubicBezTo>
                  <a:pt x="4146" y="525"/>
                  <a:pt x="4142" y="512"/>
                  <a:pt x="4137" y="499"/>
                </a:cubicBezTo>
                <a:cubicBezTo>
                  <a:pt x="4133" y="490"/>
                  <a:pt x="4121" y="483"/>
                  <a:pt x="4124" y="474"/>
                </a:cubicBezTo>
                <a:cubicBezTo>
                  <a:pt x="4152" y="396"/>
                  <a:pt x="4274" y="414"/>
                  <a:pt x="4335" y="410"/>
                </a:cubicBezTo>
                <a:cubicBezTo>
                  <a:pt x="4328" y="344"/>
                  <a:pt x="4325" y="362"/>
                  <a:pt x="4310" y="314"/>
                </a:cubicBezTo>
                <a:cubicBezTo>
                  <a:pt x="4345" y="296"/>
                  <a:pt x="4366" y="308"/>
                  <a:pt x="4406" y="314"/>
                </a:cubicBezTo>
                <a:cubicBezTo>
                  <a:pt x="4458" y="304"/>
                  <a:pt x="4455" y="289"/>
                  <a:pt x="4502" y="256"/>
                </a:cubicBezTo>
                <a:cubicBezTo>
                  <a:pt x="4508" y="252"/>
                  <a:pt x="4521" y="243"/>
                  <a:pt x="4521" y="243"/>
                </a:cubicBezTo>
                <a:cubicBezTo>
                  <a:pt x="4525" y="237"/>
                  <a:pt x="4536" y="231"/>
                  <a:pt x="4534" y="224"/>
                </a:cubicBezTo>
                <a:cubicBezTo>
                  <a:pt x="4532" y="216"/>
                  <a:pt x="4522" y="213"/>
                  <a:pt x="4514" y="211"/>
                </a:cubicBezTo>
                <a:cubicBezTo>
                  <a:pt x="4483" y="204"/>
                  <a:pt x="4450" y="205"/>
                  <a:pt x="4418" y="199"/>
                </a:cubicBezTo>
                <a:cubicBezTo>
                  <a:pt x="4396" y="184"/>
                  <a:pt x="4385" y="175"/>
                  <a:pt x="4406" y="154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6551640" cy="4943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826920" y="2852640"/>
            <a:ext cx="14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98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380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Hight of the emission point - eff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1174680"/>
            <a:ext cx="72709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ou</a:t>
            </a:r>
            <a:r>
              <a:rPr b="0" lang="nl-NL" sz="3200" spc="-1" strike="noStrike" baseline="-25000">
                <a:solidFill>
                  <a:srgbClr val="003366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/m</a:t>
            </a:r>
            <a:r>
              <a:rPr b="0" lang="nl-NL" sz="32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as 98-per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03640" y="1989000"/>
            <a:ext cx="33084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Area of the low burd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2%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 of hours per ye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odour concentration &gt;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Area of medium burd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3366"/>
                </a:solidFill>
                <a:latin typeface="Arial"/>
              </a:rPr>
              <a:t>Area of high burd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15960" y="1760400"/>
            <a:ext cx="4160880" cy="41608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911240" y="3513240"/>
            <a:ext cx="1524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4000" y="26028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Visualisation of the odour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995640" y="2276280"/>
            <a:ext cx="1224000" cy="647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3716280"/>
            <a:ext cx="2087280" cy="144360"/>
          </a:xfrm>
          <a:prstGeom prst="line">
            <a:avLst/>
          </a:prstGeom>
          <a:ln w="475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43280" y="3860640"/>
            <a:ext cx="2449440" cy="1152720"/>
          </a:xfrm>
          <a:prstGeom prst="line">
            <a:avLst/>
          </a:prstGeom>
          <a:ln w="47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dour concentration limi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57200" y="1600200"/>
          <a:ext cx="8229600" cy="4116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ar Ho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u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m</a:t>
                      </a:r>
                      <a:r>
                        <a:rPr b="0" lang="en-US" sz="2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98-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s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ilt-up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ilt-up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igh dens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vestock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ther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. Introduc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Speach prepared together with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Dutch Ministry of Environmental Protec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Own background 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dour measur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olicy on air pollution and odour  (national/region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nsultancy on odour control and surve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Particular ite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Only for animal housing system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Special consideration needed for other sources of odour than the stable itself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Not for all animal categori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are emission factors availab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380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Attention poi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Calculated odour burden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can differ from real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Prescribed 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factor </a:t>
            </a:r>
            <a:r>
              <a:rPr b="0" lang="en-GB" sz="3200" spc="-1" strike="noStrike">
                <a:solidFill>
                  <a:srgbClr val="003366"/>
                </a:solidFill>
                <a:latin typeface="Arial"/>
                <a:ea typeface="Arial"/>
              </a:rPr>
              <a:t>≠</a:t>
            </a: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 measured emiss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Attention poi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Tolerated nuisance levels are nationally determin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Municipalities cannot deny a permit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if complied to immission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380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Attention Poi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Presence of housing areas sets a limit to size of livestock fa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The odour circle sets a limit for development of new housing area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Typical Dutch problem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cc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ccff"/>
                </a:solidFill>
                <a:latin typeface="Arial"/>
              </a:rPr>
              <a:t>Situation in the Netherlan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ccff"/>
                </a:solidFill>
                <a:latin typeface="Arial"/>
              </a:rPr>
              <a:t>Our policy and practice in genera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ccff"/>
                </a:solidFill>
                <a:latin typeface="Arial"/>
              </a:rPr>
              <a:t>Industry : </a:t>
            </a:r>
            <a:r>
              <a:rPr b="0" lang="nl-NL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3ccff"/>
                </a:solidFill>
                <a:latin typeface="Arial"/>
              </a:rPr>
              <a:t>odour control in detai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ccff"/>
                </a:solidFill>
                <a:latin typeface="Arial"/>
              </a:rPr>
              <a:t>Agriculture: its regulations and resul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Conclusions and recommand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Conclusions for Dutch Sit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Less nuisance due to Odour Polic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Unless the Economic Growt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Severe Nuisance still pres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Nuisance level best decided local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tional standardisation helpfull and necessa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tional legal regulations sometimes need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Plans for the futu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Quality improvement in measurements and calcultation meth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Quality improvement in policy, law and regulations (keep them up tot date!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137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Future: Equal approach to Noise</a:t>
            </a:r>
            <a:br>
              <a:rPr sz="18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7200720" cy="4532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24000" y="1628640"/>
            <a:ext cx="20890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ffffff"/>
                </a:solidFill>
                <a:latin typeface="Arial"/>
              </a:rPr>
              <a:t>Assesment (by RIV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ffffff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ffffff"/>
                </a:solidFill>
                <a:latin typeface="Arial"/>
              </a:rPr>
              <a:t>quality of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ffffff"/>
                </a:solidFill>
                <a:latin typeface="Arial"/>
              </a:rPr>
              <a:t>In the housing areas</a:t>
            </a:r>
            <a:r>
              <a:rPr b="1" i="1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11280" y="162864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ffffff"/>
                </a:solidFill>
                <a:latin typeface="Arial"/>
              </a:rPr>
              <a:t>Concentration of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ffffff"/>
                </a:solidFill>
                <a:latin typeface="Arial"/>
              </a:rPr>
              <a:t>( standard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ffffff"/>
                </a:solidFill>
                <a:latin typeface="Arial"/>
              </a:rPr>
              <a:t>[ ge/m3, 98-p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27920" y="1700280"/>
            <a:ext cx="968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ffffff"/>
                </a:solidFill>
                <a:latin typeface="Arial"/>
              </a:rPr>
              <a:t>( industr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ffffff"/>
                </a:solidFill>
                <a:latin typeface="Arial"/>
              </a:rPr>
              <a:t>[ dB(A)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80360" y="1700280"/>
            <a:ext cx="1758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ffffff"/>
                </a:solidFill>
                <a:latin typeface="Arial"/>
              </a:rPr>
              <a:t>Nui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ffffff"/>
                </a:solidFill>
                <a:latin typeface="Arial"/>
              </a:rPr>
              <a:t>( DLO / TLO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ffffff"/>
                </a:solidFill>
                <a:latin typeface="Arial"/>
              </a:rPr>
              <a:t>[ % sometimes/often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02120" y="2492280"/>
            <a:ext cx="1497600" cy="3221280"/>
            <a:chOff x="402120" y="2492280"/>
            <a:chExt cx="1497600" cy="3221280"/>
          </a:xfrm>
        </p:grpSpPr>
        <p:sp>
          <p:nvSpPr>
            <p:cNvPr id="345" name=""/>
            <p:cNvSpPr/>
            <p:nvPr/>
          </p:nvSpPr>
          <p:spPr>
            <a:xfrm>
              <a:off x="779400" y="4152960"/>
              <a:ext cx="72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200" spc="-1" strike="noStrike">
                  <a:solidFill>
                    <a:srgbClr val="000000"/>
                  </a:solidFill>
                  <a:latin typeface="Arial"/>
                </a:rPr>
                <a:t>slightly b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200" spc="-1" strike="noStrike">
                  <a:solidFill>
                    <a:srgbClr val="000000"/>
                  </a:solidFill>
                  <a:latin typeface="Arial"/>
                </a:rPr>
                <a:t>b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4880" y="4827600"/>
              <a:ext cx="1066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300" spc="-1" strike="noStrike">
                  <a:solidFill>
                    <a:srgbClr val="000000"/>
                  </a:solidFill>
                  <a:latin typeface="Arial"/>
                </a:rPr>
                <a:t>very ba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300" spc="-1" strike="noStrike">
                  <a:solidFill>
                    <a:srgbClr val="000000"/>
                  </a:solidFill>
                  <a:latin typeface="Arial"/>
                </a:rPr>
                <a:t>extremly ba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6480" y="2492280"/>
              <a:ext cx="966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300" spc="-1" strike="noStrike">
                  <a:solidFill>
                    <a:srgbClr val="000000"/>
                  </a:solidFill>
                  <a:latin typeface="Arial"/>
                </a:rPr>
                <a:t>very goo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300" spc="-1" strike="noStrike">
                  <a:solidFill>
                    <a:srgbClr val="000000"/>
                  </a:solidFill>
                  <a:latin typeface="Arial"/>
                </a:rPr>
                <a:t>goo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2120" y="3316320"/>
              <a:ext cx="149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300" spc="-1" strike="noStrike">
                  <a:solidFill>
                    <a:srgbClr val="000000"/>
                  </a:solidFill>
                  <a:latin typeface="Arial"/>
                </a:rPr>
                <a:t>reasonably goo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300" spc="-1" strike="noStrike">
                  <a:solidFill>
                    <a:srgbClr val="000000"/>
                  </a:solidFill>
                  <a:latin typeface="Arial"/>
                </a:rPr>
                <a:t>avar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259080" y="1262160"/>
            <a:ext cx="52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0,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005360" y="1262160"/>
            <a:ext cx="52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62440" y="1262160"/>
            <a:ext cx="52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95760" y="1262160"/>
            <a:ext cx="524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300720" y="1268280"/>
            <a:ext cx="52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39000" y="1287360"/>
            <a:ext cx="663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sp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1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154320" y="1684080"/>
            <a:ext cx="4424400" cy="3994200"/>
            <a:chOff x="3154320" y="1684080"/>
            <a:chExt cx="4424400" cy="3994200"/>
          </a:xfrm>
        </p:grpSpPr>
        <p:sp>
          <p:nvSpPr>
            <p:cNvPr id="356" name=""/>
            <p:cNvSpPr/>
            <p:nvPr/>
          </p:nvSpPr>
          <p:spPr>
            <a:xfrm>
              <a:off x="3154320" y="1684440"/>
              <a:ext cx="4424400" cy="63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54320" y="2523600"/>
              <a:ext cx="4424400" cy="63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54320" y="4204440"/>
              <a:ext cx="4424400" cy="63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54320" y="5044680"/>
              <a:ext cx="4424400" cy="63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54320" y="3364200"/>
              <a:ext cx="4424400" cy="63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898440" y="1684080"/>
              <a:ext cx="0" cy="39942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642200" y="1684080"/>
              <a:ext cx="0" cy="39942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86320" y="1684080"/>
              <a:ext cx="0" cy="39942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130440" y="1684080"/>
              <a:ext cx="0" cy="39942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874200" y="1684080"/>
              <a:ext cx="0" cy="39942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235080" y="1397160"/>
            <a:ext cx="2689200" cy="462564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4052880" y="1876320"/>
            <a:ext cx="3506400" cy="3636720"/>
            <a:chOff x="4052880" y="1876320"/>
            <a:chExt cx="3506400" cy="3636720"/>
          </a:xfrm>
        </p:grpSpPr>
        <p:sp>
          <p:nvSpPr>
            <p:cNvPr id="368" name=""/>
            <p:cNvSpPr/>
            <p:nvPr/>
          </p:nvSpPr>
          <p:spPr>
            <a:xfrm>
              <a:off x="4060800" y="1876320"/>
              <a:ext cx="145584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2880" y="2706120"/>
              <a:ext cx="146376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85120" y="3576240"/>
              <a:ext cx="147996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33560" y="4407120"/>
              <a:ext cx="147888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73000" y="5236920"/>
              <a:ext cx="1286280" cy="276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uture: Type of area related polic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Recommand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ndardize methods and mea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th quality assu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licy, law and regulation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eep them up to da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rganize the right decision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r every local sit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The Dutch Odour sit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7199280" cy="453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131292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We wish you Success 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3059280" y="1268280"/>
            <a:ext cx="5472000" cy="3419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3274920" y="1484280"/>
            <a:ext cx="5472360" cy="3419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. Situation in the Netherlan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Over 25 years of policy develop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Main sources of odour nuis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Agriculture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Households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Industry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Traffic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3366"/>
                </a:solidFill>
                <a:latin typeface="Arial"/>
              </a:rPr>
              <a:t>15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2. Complaints on the Environ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195640" y="1628640"/>
            <a:ext cx="4588920" cy="4631040"/>
            <a:chOff x="2195640" y="1628640"/>
            <a:chExt cx="4588920" cy="4631040"/>
          </a:xfrm>
        </p:grpSpPr>
        <p:sp>
          <p:nvSpPr>
            <p:cNvPr id="52" name=""/>
            <p:cNvSpPr/>
            <p:nvPr/>
          </p:nvSpPr>
          <p:spPr>
            <a:xfrm>
              <a:off x="2549520" y="1628640"/>
              <a:ext cx="4235040" cy="4631040"/>
            </a:xfrm>
            <a:custGeom>
              <a:avLst/>
              <a:gdLst/>
              <a:ahLst/>
              <a:rect l="l" t="t" r="r" b="b"/>
              <a:pathLst>
                <a:path w="4473" h="4896">
                  <a:moveTo>
                    <a:pt x="0" y="3746"/>
                  </a:moveTo>
                  <a:lnTo>
                    <a:pt x="88" y="3883"/>
                  </a:lnTo>
                  <a:lnTo>
                    <a:pt x="177" y="4001"/>
                  </a:lnTo>
                  <a:lnTo>
                    <a:pt x="285" y="4119"/>
                  </a:lnTo>
                  <a:lnTo>
                    <a:pt x="383" y="4237"/>
                  </a:lnTo>
                  <a:lnTo>
                    <a:pt x="619" y="4434"/>
                  </a:lnTo>
                  <a:lnTo>
                    <a:pt x="875" y="4591"/>
                  </a:lnTo>
                  <a:lnTo>
                    <a:pt x="1002" y="4660"/>
                  </a:lnTo>
                  <a:lnTo>
                    <a:pt x="1140" y="4719"/>
                  </a:lnTo>
                  <a:lnTo>
                    <a:pt x="1288" y="4778"/>
                  </a:lnTo>
                  <a:lnTo>
                    <a:pt x="1582" y="4857"/>
                  </a:lnTo>
                  <a:lnTo>
                    <a:pt x="1730" y="4876"/>
                  </a:lnTo>
                  <a:lnTo>
                    <a:pt x="2045" y="4896"/>
                  </a:lnTo>
                  <a:lnTo>
                    <a:pt x="2290" y="4886"/>
                  </a:lnTo>
                  <a:lnTo>
                    <a:pt x="2526" y="4847"/>
                  </a:lnTo>
                  <a:lnTo>
                    <a:pt x="2762" y="4788"/>
                  </a:lnTo>
                  <a:lnTo>
                    <a:pt x="2988" y="4699"/>
                  </a:lnTo>
                  <a:lnTo>
                    <a:pt x="3195" y="4591"/>
                  </a:lnTo>
                  <a:lnTo>
                    <a:pt x="3392" y="4473"/>
                  </a:lnTo>
                  <a:lnTo>
                    <a:pt x="3588" y="4326"/>
                  </a:lnTo>
                  <a:lnTo>
                    <a:pt x="3755" y="4168"/>
                  </a:lnTo>
                  <a:lnTo>
                    <a:pt x="3913" y="3992"/>
                  </a:lnTo>
                  <a:lnTo>
                    <a:pt x="4050" y="3805"/>
                  </a:lnTo>
                  <a:lnTo>
                    <a:pt x="4178" y="3608"/>
                  </a:lnTo>
                  <a:lnTo>
                    <a:pt x="4276" y="3392"/>
                  </a:lnTo>
                  <a:lnTo>
                    <a:pt x="4365" y="3166"/>
                  </a:lnTo>
                  <a:lnTo>
                    <a:pt x="4424" y="2930"/>
                  </a:lnTo>
                  <a:lnTo>
                    <a:pt x="4463" y="2694"/>
                  </a:lnTo>
                  <a:lnTo>
                    <a:pt x="4473" y="2448"/>
                  </a:lnTo>
                  <a:lnTo>
                    <a:pt x="4463" y="2202"/>
                  </a:lnTo>
                  <a:lnTo>
                    <a:pt x="4424" y="1956"/>
                  </a:lnTo>
                  <a:lnTo>
                    <a:pt x="4365" y="1730"/>
                  </a:lnTo>
                  <a:lnTo>
                    <a:pt x="4276" y="1504"/>
                  </a:lnTo>
                  <a:lnTo>
                    <a:pt x="4178" y="1288"/>
                  </a:lnTo>
                  <a:lnTo>
                    <a:pt x="4050" y="1081"/>
                  </a:lnTo>
                  <a:lnTo>
                    <a:pt x="3913" y="895"/>
                  </a:lnTo>
                  <a:lnTo>
                    <a:pt x="3755" y="728"/>
                  </a:lnTo>
                  <a:lnTo>
                    <a:pt x="3588" y="560"/>
                  </a:lnTo>
                  <a:lnTo>
                    <a:pt x="3392" y="423"/>
                  </a:lnTo>
                  <a:lnTo>
                    <a:pt x="3195" y="295"/>
                  </a:lnTo>
                  <a:lnTo>
                    <a:pt x="2988" y="197"/>
                  </a:lnTo>
                  <a:lnTo>
                    <a:pt x="2762" y="108"/>
                  </a:lnTo>
                  <a:lnTo>
                    <a:pt x="2526" y="49"/>
                  </a:lnTo>
                  <a:lnTo>
                    <a:pt x="2290" y="10"/>
                  </a:lnTo>
                  <a:lnTo>
                    <a:pt x="2045" y="0"/>
                  </a:lnTo>
                  <a:lnTo>
                    <a:pt x="2045" y="2448"/>
                  </a:lnTo>
                  <a:lnTo>
                    <a:pt x="0" y="3746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98800" y="1628640"/>
              <a:ext cx="586800" cy="2315520"/>
            </a:xfrm>
            <a:custGeom>
              <a:avLst/>
              <a:gdLst/>
              <a:ahLst/>
              <a:rect l="l" t="t" r="r" b="b"/>
              <a:pathLst>
                <a:path w="620" h="2448">
                  <a:moveTo>
                    <a:pt x="620" y="0"/>
                  </a:moveTo>
                  <a:lnTo>
                    <a:pt x="305" y="20"/>
                  </a:lnTo>
                  <a:lnTo>
                    <a:pt x="0" y="79"/>
                  </a:lnTo>
                  <a:lnTo>
                    <a:pt x="620" y="2448"/>
                  </a:lnTo>
                  <a:lnTo>
                    <a:pt x="620" y="0"/>
                  </a:lnTo>
                  <a:close/>
                </a:path>
              </a:pathLst>
            </a:custGeom>
            <a:solidFill>
              <a:srgbClr val="8d7f8b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77840" y="1703160"/>
              <a:ext cx="708120" cy="2240640"/>
            </a:xfrm>
            <a:custGeom>
              <a:avLst/>
              <a:gdLst/>
              <a:ahLst/>
              <a:rect l="l" t="t" r="r" b="b"/>
              <a:pathLst>
                <a:path w="748" h="2369">
                  <a:moveTo>
                    <a:pt x="128" y="0"/>
                  </a:moveTo>
                  <a:lnTo>
                    <a:pt x="59" y="19"/>
                  </a:lnTo>
                  <a:lnTo>
                    <a:pt x="0" y="39"/>
                  </a:lnTo>
                  <a:lnTo>
                    <a:pt x="748" y="236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93320" y="1739880"/>
              <a:ext cx="1592280" cy="2203920"/>
            </a:xfrm>
            <a:custGeom>
              <a:avLst/>
              <a:gdLst/>
              <a:ahLst/>
              <a:rect l="l" t="t" r="r" b="b"/>
              <a:pathLst>
                <a:path w="1682" h="2330">
                  <a:moveTo>
                    <a:pt x="934" y="0"/>
                  </a:moveTo>
                  <a:lnTo>
                    <a:pt x="797" y="49"/>
                  </a:lnTo>
                  <a:lnTo>
                    <a:pt x="669" y="98"/>
                  </a:lnTo>
                  <a:lnTo>
                    <a:pt x="551" y="167"/>
                  </a:lnTo>
                  <a:lnTo>
                    <a:pt x="433" y="226"/>
                  </a:lnTo>
                  <a:lnTo>
                    <a:pt x="325" y="305"/>
                  </a:lnTo>
                  <a:lnTo>
                    <a:pt x="207" y="383"/>
                  </a:lnTo>
                  <a:lnTo>
                    <a:pt x="0" y="570"/>
                  </a:lnTo>
                  <a:lnTo>
                    <a:pt x="1682" y="2330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ba7c0c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9520" y="2279160"/>
              <a:ext cx="1936080" cy="1664640"/>
            </a:xfrm>
            <a:custGeom>
              <a:avLst/>
              <a:gdLst/>
              <a:ahLst/>
              <a:rect l="l" t="t" r="r" b="b"/>
              <a:pathLst>
                <a:path w="2045" h="1760">
                  <a:moveTo>
                    <a:pt x="363" y="0"/>
                  </a:moveTo>
                  <a:lnTo>
                    <a:pt x="255" y="108"/>
                  </a:lnTo>
                  <a:lnTo>
                    <a:pt x="167" y="216"/>
                  </a:lnTo>
                  <a:lnTo>
                    <a:pt x="78" y="334"/>
                  </a:lnTo>
                  <a:lnTo>
                    <a:pt x="0" y="462"/>
                  </a:lnTo>
                  <a:lnTo>
                    <a:pt x="2045" y="176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95640" y="2716200"/>
              <a:ext cx="2290320" cy="2455560"/>
            </a:xfrm>
            <a:custGeom>
              <a:avLst/>
              <a:gdLst/>
              <a:ahLst/>
              <a:rect l="l" t="t" r="r" b="b"/>
              <a:pathLst>
                <a:path w="2419" h="2596">
                  <a:moveTo>
                    <a:pt x="374" y="0"/>
                  </a:moveTo>
                  <a:lnTo>
                    <a:pt x="285" y="148"/>
                  </a:lnTo>
                  <a:lnTo>
                    <a:pt x="206" y="305"/>
                  </a:lnTo>
                  <a:lnTo>
                    <a:pt x="88" y="620"/>
                  </a:lnTo>
                  <a:lnTo>
                    <a:pt x="49" y="787"/>
                  </a:lnTo>
                  <a:lnTo>
                    <a:pt x="20" y="954"/>
                  </a:lnTo>
                  <a:lnTo>
                    <a:pt x="10" y="1121"/>
                  </a:lnTo>
                  <a:lnTo>
                    <a:pt x="0" y="1298"/>
                  </a:lnTo>
                  <a:lnTo>
                    <a:pt x="10" y="1475"/>
                  </a:lnTo>
                  <a:lnTo>
                    <a:pt x="20" y="1642"/>
                  </a:lnTo>
                  <a:lnTo>
                    <a:pt x="49" y="1809"/>
                  </a:lnTo>
                  <a:lnTo>
                    <a:pt x="88" y="1976"/>
                  </a:lnTo>
                  <a:lnTo>
                    <a:pt x="206" y="2291"/>
                  </a:lnTo>
                  <a:lnTo>
                    <a:pt x="285" y="2448"/>
                  </a:lnTo>
                  <a:lnTo>
                    <a:pt x="374" y="2596"/>
                  </a:lnTo>
                  <a:lnTo>
                    <a:pt x="2419" y="1298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004720" y="371628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70% – 80%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OD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9800" y="32130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2720" y="2133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5080" y="15573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Arial"/>
              </a:rPr>
              <a:t>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61080" y="1197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8772800">
            <a:off x="3979800" y="12949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407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Odour Nuisance in the Netherlan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15960" y="1212840"/>
          <a:ext cx="7016760" cy="485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960" y="1212840"/>
                    <a:ext cx="701676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164360" y="1341360"/>
            <a:ext cx="149076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d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ui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981   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 startAt="198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 startAt="200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v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ui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t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 -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Regional differences  N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Regions with livestock far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uisance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15 – 4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Severe Nuisance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 5 – 2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Highly industrialised area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uisance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25 – 7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Severe Nuisance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10 – 4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Quiet Region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uisance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&lt; 5 – 10 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ot Spots around specific sites (landfills et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3. Dutch Legislation on Odou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Spatial Planning Act (Wro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Environmental Management Act (Wm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Advised distances around industry (2007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Emission Guidelines on air pollution (2006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Livestock housing Decree (2008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9:55:27Z</dcterms:created>
  <dc:creator>Joanna</dc:creator>
  <dc:description/>
  <dc:language>en-US</dc:language>
  <cp:lastModifiedBy>Joanna</cp:lastModifiedBy>
  <dcterms:modified xsi:type="dcterms:W3CDTF">2008-03-31T09:55:30Z</dcterms:modified>
  <cp:revision>43</cp:revision>
  <dc:subject/>
  <dc:title>Dia 1</dc:title>
</cp:coreProperties>
</file>